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1A8E-5AF9-4B6D-8271-DEE405B57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B530-A183-4A02-B7A0-78038B24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CCA6-2363-4B89-BE65-8CF76A061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6DE4-75CC-4091-A598-FC00104DC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7B5A-10A8-4EBB-B153-03A12455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BE28-56BF-4D46-A8FE-AF21B0B2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3D88-9230-4AA1-96CF-094C6EC0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F346-BD4D-4364-A85B-BBFAC1D1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E410-6A06-4045-A56F-4F0F0E54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8B34-68C6-46B2-900F-41AFABDD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1C44-0053-423B-8583-08A38C91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9134-44BA-4A73-BB32-5A46A294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3883-9025-4EB6-84BE-007B2F509F3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発注方法を見直すことによって、大きな在庫の削減が期待できる。在庫回転率の悪い商品については、すぐに発注方法の見直しを行っていく必要があ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8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161200" cy="2266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2"/>
          <a:stretch/>
        </p:blipFill>
        <p:spPr>
          <a:xfrm>
            <a:off x="468360" y="4575240"/>
            <a:ext cx="8174160" cy="2255760"/>
          </a:xfrm>
          <a:prstGeom prst="rect">
            <a:avLst/>
          </a:prstGeom>
          <a:ln w="0">
            <a:noFill/>
          </a:ln>
        </p:spPr>
      </p:pic>
      <p:sp>
        <p:nvSpPr>
          <p:cNvPr id="44" name="角丸四角形 5"/>
          <p:cNvSpPr/>
          <p:nvPr/>
        </p:nvSpPr>
        <p:spPr>
          <a:xfrm>
            <a:off x="900000" y="1628640"/>
            <a:ext cx="2087640" cy="360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009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年度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月実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二等辺三角形 6"/>
          <p:cNvSpPr/>
          <p:nvPr/>
        </p:nvSpPr>
        <p:spPr>
          <a:xfrm rot="10800000">
            <a:off x="3053880" y="4040280"/>
            <a:ext cx="2094120" cy="382320"/>
          </a:xfrm>
          <a:prstGeom prst="triangle">
            <a:avLst>
              <a:gd name="adj" fmla="val 50000"/>
            </a:avLst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角丸四角形 14"/>
          <p:cNvSpPr/>
          <p:nvPr/>
        </p:nvSpPr>
        <p:spPr>
          <a:xfrm>
            <a:off x="914400" y="4422600"/>
            <a:ext cx="4449600" cy="360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009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年度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月実績ベースのシミュレーショ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直線コネクタ 9"/>
          <p:cNvSpPr/>
          <p:nvPr/>
        </p:nvSpPr>
        <p:spPr>
          <a:xfrm>
            <a:off x="784080" y="2681280"/>
            <a:ext cx="6767640" cy="0"/>
          </a:xfrm>
          <a:prstGeom prst="line">
            <a:avLst/>
          </a:prstGeom>
          <a:ln w="76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線コネクタ 19"/>
          <p:cNvSpPr/>
          <p:nvPr/>
        </p:nvSpPr>
        <p:spPr>
          <a:xfrm>
            <a:off x="826920" y="5489640"/>
            <a:ext cx="6769440" cy="0"/>
          </a:xfrm>
          <a:prstGeom prst="line">
            <a:avLst/>
          </a:prstGeom>
          <a:ln w="76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テキスト ボックス 10"/>
          <p:cNvSpPr/>
          <p:nvPr/>
        </p:nvSpPr>
        <p:spPr>
          <a:xfrm>
            <a:off x="6515640" y="4049640"/>
            <a:ext cx="1681560" cy="1067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シミュレーション結果で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実績と比較すると、在庫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量が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0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を超える日が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きく減少している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4T06:11:43Z</dcterms:created>
  <dc:creator>Gihyo</dc:creator>
  <dc:description/>
  <dc:language>en-US</dc:language>
  <cp:lastModifiedBy>IAF Consulting Inc.</cp:lastModifiedBy>
  <dcterms:modified xsi:type="dcterms:W3CDTF">2010-09-14T07:51:49Z</dcterms:modified>
  <cp:revision>4</cp:revision>
  <dc:subject/>
  <dc:title>発注方法を見直すことによって、大きな在庫の削減が期待できる。在庫回転率の悪い商品については、すぐに発注方法の見直しを行っていく必要がある。</dc:title>
</cp:coreProperties>
</file>