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B4E-0F3C-458F-94F9-95FCB6AF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AE7-5494-4410-89BF-F21A27BD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9F7-1294-4319-B027-46C25C2E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5EF-9FDD-4CAD-B96F-66A5DAE0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638-50B8-4908-BB34-ADF6203B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B8D-D422-4768-83FD-0C73B513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B12-353F-4E76-B52B-4C3B5635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8A9-F308-41DC-BA7E-A9460D55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2FE-D525-4D58-A46E-CA9F7CB9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10C-464A-4BF8-AA27-6A7FBE54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98E-F811-4FCD-8A7D-8666DB8E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CFC-8463-498F-AA26-3B34035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5679-7800-4755-BC37-DFC6D500E5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自転車用品事業部の中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ウェア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シューズ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の売上が著しく伸びている。来期はこの分野の販促を強化し、自転車用品事業部の一層の成長につなげていきた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1538280"/>
            <a:ext cx="7962840" cy="5203800"/>
          </a:xfrm>
          <a:prstGeom prst="rect">
            <a:avLst/>
          </a:prstGeom>
          <a:ln w="0">
            <a:noFill/>
          </a:ln>
        </p:spPr>
      </p:pic>
      <p:sp>
        <p:nvSpPr>
          <p:cNvPr id="43" name="円/楕円 4"/>
          <p:cNvSpPr/>
          <p:nvPr/>
        </p:nvSpPr>
        <p:spPr>
          <a:xfrm rot="19759800">
            <a:off x="1069560" y="3178080"/>
            <a:ext cx="6640560" cy="1081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角丸四角形 5"/>
          <p:cNvSpPr/>
          <p:nvPr/>
        </p:nvSpPr>
        <p:spPr>
          <a:xfrm>
            <a:off x="7466040" y="4797360"/>
            <a:ext cx="79380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6:29:55Z</dcterms:created>
  <dc:creator>Gihyo</dc:creator>
  <dc:description/>
  <dc:language>en-US</dc:language>
  <cp:lastModifiedBy>Gihyo</cp:lastModifiedBy>
  <dcterms:modified xsi:type="dcterms:W3CDTF">2010-09-14T03:18:59Z</dcterms:modified>
  <cp:revision>1</cp:revision>
  <dc:subject/>
  <dc:title>自転車用品事業部の中で『ウェア』と『シューズ』の売上が著しく伸びている。来期はこの分野の販促を強化し、自転車用品事業部の一層の成長につなげていきたい。</dc:title>
</cp:coreProperties>
</file>