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C74-B989-489A-813B-A25AEF03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1162-CDCF-439F-8B98-15409FE3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178-E66C-425D-BB8F-E68233AE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135-BDF4-4CC0-8DEA-90E458D6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944-82C6-4375-9C14-8B6A1907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F19-B1EF-4897-8B55-7061FEFA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751-A4C8-4818-BAB6-2AB216C5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739-E12E-494F-B535-6C8C087B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A32-C49A-4AB9-84DA-102D77C8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0DE-E234-4810-9F52-390AB00D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6EE-DAB3-41C7-B044-6F0512A8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F71-996F-405A-A2E1-45B36AA6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899D-73AC-458D-99CC-48181DDB02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商品ごとの利益金額を考慮した棚割りに変更することによって、棚あたりの利益額を増加させることができ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5820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4"/>
          <p:cNvSpPr/>
          <p:nvPr/>
        </p:nvSpPr>
        <p:spPr>
          <a:xfrm>
            <a:off x="4386240" y="4840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れまですべての商品を均等に並べていたが、線形計画法を使って算出した最適値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うことによって、棚の大きさや並べる商品の種類を変えずに、棚あたりの利益額を増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させることが可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5"/>
          <p:cNvSpPr/>
          <p:nvPr/>
        </p:nvSpPr>
        <p:spPr>
          <a:xfrm>
            <a:off x="4154400" y="2492280"/>
            <a:ext cx="863640" cy="18734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6012000" y="2492280"/>
            <a:ext cx="863640" cy="18734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右矢印 6"/>
          <p:cNvSpPr/>
          <p:nvPr/>
        </p:nvSpPr>
        <p:spPr>
          <a:xfrm>
            <a:off x="5148360" y="2924280"/>
            <a:ext cx="718920" cy="100944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8"/>
          <p:cNvSpPr/>
          <p:nvPr/>
        </p:nvSpPr>
        <p:spPr>
          <a:xfrm>
            <a:off x="7812000" y="4365720"/>
            <a:ext cx="970200" cy="35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7:53:08Z</dcterms:created>
  <dc:creator>Gihyo</dc:creator>
  <dc:description/>
  <dc:language>en-US</dc:language>
  <cp:lastModifiedBy>a-hirai</cp:lastModifiedBy>
  <dcterms:modified xsi:type="dcterms:W3CDTF">2010-09-14T03:55:55Z</dcterms:modified>
  <cp:revision>2</cp:revision>
  <dc:subject/>
  <dc:title>商品ごとの利益金額を考慮した棚割りに変更することによって、棚あたりの利益額を増加させることができる。</dc:title>
</cp:coreProperties>
</file>