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177-6F85-48CA-B9FC-406B5943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C9B-5047-4843-8D7B-2CBD146A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51-F493-4A5F-9567-4901B315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D43-8824-4373-A7FF-86152B7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8EE-CECF-4D49-BFD5-2398BE0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F64-4C58-4B85-A85F-19135E98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CC4-7846-42C5-994B-DE0EBE42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F6B-A63B-42E0-B207-95493305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010-7735-4FD1-82E1-C2D4AF5C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CBE-5E7E-4F52-A62A-360E318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147-AB3E-459D-8C3A-FA86615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220-4F4C-4255-84CB-6420B0F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8BE-4E34-4566-8CFA-9FB8E962C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在庫回転率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0”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より低い商品については、発注方法を早急に見直す必要が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1353960"/>
            <a:ext cx="8353440" cy="545976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1116000" y="4437000"/>
            <a:ext cx="6264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在庫回転率が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3.0”</a:t>
            </a: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より低いも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 rot="18956400">
            <a:off x="6194520" y="610524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 rot="18956400">
            <a:off x="5557680" y="6114960"/>
            <a:ext cx="120816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 rot="18956400">
            <a:off x="4005000" y="6114600"/>
            <a:ext cx="120960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0"/>
          <p:cNvSpPr/>
          <p:nvPr/>
        </p:nvSpPr>
        <p:spPr>
          <a:xfrm rot="18956400">
            <a:off x="2446200" y="6129000"/>
            <a:ext cx="120996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11"/>
          <p:cNvSpPr/>
          <p:nvPr/>
        </p:nvSpPr>
        <p:spPr>
          <a:xfrm rot="18956400">
            <a:off x="905040" y="612900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1:46:09Z</dcterms:created>
  <dc:creator>Gihyo</dc:creator>
  <dc:description/>
  <dc:language>en-US</dc:language>
  <cp:lastModifiedBy>a-hirai</cp:lastModifiedBy>
  <dcterms:modified xsi:type="dcterms:W3CDTF">2010-09-14T03:56:47Z</dcterms:modified>
  <cp:revision>2</cp:revision>
  <dc:subject/>
  <dc:title>在庫回転率が”3.0”より低い商品については、発注方法を早急に見直す必要がある。</dc:title>
</cp:coreProperties>
</file>