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93E-77C0-4EBA-A57C-1C64D1E8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B5F-2EE9-41B5-AB3A-A3F6821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041-49EC-42A5-909E-75A92C6A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BA6-7DF6-4541-A2C3-C0338989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91D-0C45-44DD-A807-DA56EA27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DD9-AD0C-4D01-A10B-55878354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E12-E159-4683-9850-CC5382FB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863-2E75-422B-836F-DB6CB8B9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D35-EFB8-41AD-842D-8EC33FA4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61E-8A81-44BE-A7B7-24544CF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4A3-6A03-4738-A9E7-9E997FE6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1C7-FA56-49AB-A6BD-ACD33D4F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0895-67D6-4917-9CF2-DA328681E5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顧客満足度のアンケート調査結果から、今回の新製品導入にあたり、改善すべき項目は、次の３項目となる。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①デザインの改善（３製品全て）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②味の見直し（スイート）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の変更（ビター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タイトル 3"/>
          <p:cNvSpPr/>
          <p:nvPr/>
        </p:nvSpPr>
        <p:spPr>
          <a:xfrm>
            <a:off x="803160" y="5084640"/>
            <a:ext cx="2016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スタンダード」は、デザイン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タイトル 3"/>
          <p:cNvSpPr/>
          <p:nvPr/>
        </p:nvSpPr>
        <p:spPr>
          <a:xfrm>
            <a:off x="3379680" y="5103720"/>
            <a:ext cx="2160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スイート」は、デザインと味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タイトル 3"/>
          <p:cNvSpPr/>
          <p:nvPr/>
        </p:nvSpPr>
        <p:spPr>
          <a:xfrm>
            <a:off x="6012000" y="5111640"/>
            <a:ext cx="2160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ビター」は、デザイン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77960" y="2421000"/>
            <a:ext cx="2149560" cy="2492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3397320" y="2435400"/>
            <a:ext cx="2149560" cy="247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6040440" y="2436840"/>
            <a:ext cx="21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9:36:33Z</dcterms:created>
  <dc:creator>Gihyo</dc:creator>
  <dc:description/>
  <dc:language>en-US</dc:language>
  <cp:lastModifiedBy>Gihyo</cp:lastModifiedBy>
  <dcterms:modified xsi:type="dcterms:W3CDTF">2010-09-14T03:30:20Z</dcterms:modified>
  <cp:revision>2</cp:revision>
  <dc:subject/>
  <dc:title>顧客満足度のアンケート調査結果から、今回の新製品導入にあたり、改善すべき項目は、次の３項目となる。 ①デザインの改善（３製品全て） ②味の見直し（スイート） ③CMの変更（ビター）</dc:title>
</cp:coreProperties>
</file>