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6BD2-37F2-414D-878F-CA014711F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CC13-C8F2-4195-9D1A-A747C436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1336-F40E-4785-B450-3781820C1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207B-B336-40A2-9C3E-CC8C50156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2ACD-0345-4F11-8696-BC3EAC3C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7652-59E9-445C-BCDC-8E39BBE2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13C6-8045-4604-A3C0-45A3789B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4C10-413E-4BB4-99AD-C4031DBD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B5FD-F7BF-44D0-811E-6089B6EC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C081-D26D-40FC-8F9A-4488E5A1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D825-CF9C-47E7-907E-67F367D8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3DDC-3A5A-4DC2-A500-C73411B6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35A4-F8D0-4809-9DB9-8A0D25C7CAC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自転車用品事業部の売上は上位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つの販売店で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割をカバーしているため、この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つの販売店に絞って販促を実施す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468360" y="1270080"/>
            <a:ext cx="8280360" cy="5411880"/>
          </a:xfrm>
          <a:prstGeom prst="rect">
            <a:avLst/>
          </a:prstGeom>
          <a:ln w="0">
            <a:noFill/>
          </a:ln>
        </p:spPr>
      </p:pic>
      <p:sp>
        <p:nvSpPr>
          <p:cNvPr id="43" name="角丸四角形 4"/>
          <p:cNvSpPr/>
          <p:nvPr/>
        </p:nvSpPr>
        <p:spPr>
          <a:xfrm>
            <a:off x="900000" y="5589720"/>
            <a:ext cx="1800360" cy="647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5"/>
          <p:cNvSpPr/>
          <p:nvPr/>
        </p:nvSpPr>
        <p:spPr>
          <a:xfrm>
            <a:off x="1187280" y="1835280"/>
            <a:ext cx="1513080" cy="368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ラン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テキスト ボックス 7"/>
          <p:cNvSpPr/>
          <p:nvPr/>
        </p:nvSpPr>
        <p:spPr>
          <a:xfrm>
            <a:off x="2700360" y="3792600"/>
            <a:ext cx="934920" cy="36828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ラン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テキスト ボックス 8"/>
          <p:cNvSpPr/>
          <p:nvPr/>
        </p:nvSpPr>
        <p:spPr>
          <a:xfrm>
            <a:off x="3635280" y="4797360"/>
            <a:ext cx="338472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ラン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23:12:26Z</dcterms:created>
  <dc:creator>Gihyo</dc:creator>
  <dc:description/>
  <dc:language>en-US</dc:language>
  <cp:lastModifiedBy>Gihyo</cp:lastModifiedBy>
  <dcterms:modified xsi:type="dcterms:W3CDTF">2010-09-14T03:20:15Z</dcterms:modified>
  <cp:revision>2</cp:revision>
  <dc:subject/>
  <dc:title>自転車用品事業部の売上は上位5つの販売店で8割をカバーしているため、この5つの販売店に絞って販促を実施する</dc:title>
</cp:coreProperties>
</file>