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1ABB-295E-4B76-AC4F-21990308E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5A79-A38E-4BC1-86B9-71241CCE3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67C5-1AB7-4F3D-840C-263E5F2CC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DF23-E63C-43DF-B713-0CAAE60EF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CC02-0428-40E4-B810-3109110CD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D63E-2B71-45B0-A487-4436CF31F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A676-5BE0-4A04-A4F3-0B4C12331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55FA-560C-4BDB-9EBC-979366A01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B126-36FB-49AB-9C8B-A7649C189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072B-7EC3-410D-B95E-EAA3B43D7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AEBE-37FF-4B21-9573-635D2E54B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319E-DF2C-41E8-9512-74184AE1C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87EE0-5A90-4EA6-8F0D-EDD276C1751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会社全体の営業利益は伸びてきているものの、酒類事業部の落ち込みが大きい。詳細な状況を確認し、対応策を即時に検討する必要がある。</a:t>
            </a:r>
            <a:br>
              <a:rPr sz="2000"/>
            </a:b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また、食品事業部の伸びが著しく、積極的な投資を考えていくべき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1619280" y="1413000"/>
            <a:ext cx="7416720" cy="5317920"/>
          </a:xfrm>
          <a:prstGeom prst="rect">
            <a:avLst/>
          </a:prstGeom>
          <a:ln w="0">
            <a:noFill/>
          </a:ln>
        </p:spPr>
      </p:pic>
      <p:sp>
        <p:nvSpPr>
          <p:cNvPr id="43" name="下矢印 4"/>
          <p:cNvSpPr/>
          <p:nvPr/>
        </p:nvSpPr>
        <p:spPr>
          <a:xfrm>
            <a:off x="324000" y="1844640"/>
            <a:ext cx="1008000" cy="4753080"/>
          </a:xfrm>
          <a:prstGeom prst="downArrow">
            <a:avLst>
              <a:gd name="adj1" fmla="val 72324"/>
              <a:gd name="adj2" fmla="val 50013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角丸四角形 5"/>
          <p:cNvSpPr/>
          <p:nvPr/>
        </p:nvSpPr>
        <p:spPr>
          <a:xfrm>
            <a:off x="179280" y="2421000"/>
            <a:ext cx="1297080" cy="28728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\2,150,00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角丸四角形 7"/>
          <p:cNvSpPr/>
          <p:nvPr/>
        </p:nvSpPr>
        <p:spPr>
          <a:xfrm>
            <a:off x="179280" y="3213000"/>
            <a:ext cx="1297080" cy="28728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\2,280,00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角丸四角形 8"/>
          <p:cNvSpPr/>
          <p:nvPr/>
        </p:nvSpPr>
        <p:spPr>
          <a:xfrm>
            <a:off x="179280" y="4005360"/>
            <a:ext cx="1297080" cy="28728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\2,440,00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角丸四角形 9"/>
          <p:cNvSpPr/>
          <p:nvPr/>
        </p:nvSpPr>
        <p:spPr>
          <a:xfrm>
            <a:off x="179280" y="4797360"/>
            <a:ext cx="1297080" cy="28728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\2,640,00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角丸四角形 10"/>
          <p:cNvSpPr/>
          <p:nvPr/>
        </p:nvSpPr>
        <p:spPr>
          <a:xfrm>
            <a:off x="179280" y="5589720"/>
            <a:ext cx="1297080" cy="28728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\2,790,00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2T10:20:58Z</dcterms:created>
  <dc:creator>Gihyo</dc:creator>
  <dc:description/>
  <dc:language>en-US</dc:language>
  <cp:lastModifiedBy>Gihyo</cp:lastModifiedBy>
  <dcterms:modified xsi:type="dcterms:W3CDTF">2010-09-14T03:44:55Z</dcterms:modified>
  <cp:revision>2</cp:revision>
  <dc:subject/>
  <dc:title>会社全体の営業利益は伸びてきているものの、酒類事業部の落ち込みが大きい。詳細な状況を確認し、対応策を即時に検討する必要がある。 また、食品事業部の伸びが著しく、積極的な投資を考えていくべき。</dc:title>
</cp:coreProperties>
</file>