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E28-718B-4F6C-956A-88F5FA85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37A-4BBA-44AE-B5B0-E866964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D3D-E4CD-4AE1-968D-490F4C62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9E7-D142-43C3-8243-77298349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86E-2F68-4D6B-8A96-13892A2F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54B-4B3E-4940-A99F-AFB53509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448-45AC-4007-9B1F-A021E1CC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163-66DD-49C8-93C1-D3DD7F30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8FF-A35C-4399-932A-38637863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672-15F0-4527-9E36-32A0091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01D-D4DA-42C3-9A4D-A8C664B1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325-CD93-4ABF-8E59-A8552339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618-8F29-44EF-9BA0-DC72E4527C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月におい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スイート」は販売の減少が、「ビター」は販売の増加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予測されることがわかった。この分析結果を踏まえ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初期生産量を、「スイート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減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ビター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増と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142920" y="5448240"/>
            <a:ext cx="43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回帰分析の結果によると、気温と販売数量の間には、「スタンダード」では、ほとんど相関関係がないが、「スイート」と「ビター」については、極めて強い相関間関係があ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4643280" y="5448240"/>
            <a:ext cx="42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月の販売数量は前年比で、「スイート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減少、「ビター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増加が予測され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3160" y="2550960"/>
            <a:ext cx="4198680" cy="274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348080" y="2550960"/>
            <a:ext cx="45799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8:35Z</dcterms:created>
  <dc:creator>平井 明夫</dc:creator>
  <dc:description/>
  <dc:language>en-US</dc:language>
  <cp:lastModifiedBy>Gihyo</cp:lastModifiedBy>
  <dcterms:modified xsi:type="dcterms:W3CDTF">2010-09-14T03:34:15Z</dcterms:modified>
  <cp:revision>24</cp:revision>
  <dc:subject/>
  <dc:title>スライド 1</dc:title>
</cp:coreProperties>
</file>