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9F4D-11AA-4723-B4BD-C8263545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9E1-CF6A-416D-BDBA-A62841F4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563-FE17-461F-8970-544A170E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02E-5FFC-4CC9-92BA-052471D1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A3C4-9C96-422D-BFF9-26593DC7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84B-16B9-4F1E-B4CB-2BB29770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4FE-803A-4802-9964-518478C2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6DF-DD3A-4DF5-BF6F-1618466C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4B0-4AC4-4E7D-9121-2875DC35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3360-40D3-4D7C-BDDD-A3B8CF26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697-0FF5-4DA6-8E00-B683EF88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C5B-1CB6-4EB3-A082-377CEC80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8657-516D-47C8-90A4-163F69405B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わが社の商品で、缶コーヒーが販売不振に陥っているので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早急にてこ入れ、即ち新製品の投入が必要であ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71000" cy="496908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4"/>
          <p:cNvSpPr/>
          <p:nvPr/>
        </p:nvSpPr>
        <p:spPr>
          <a:xfrm>
            <a:off x="1936800" y="2627280"/>
            <a:ext cx="5922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問題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7"/>
          <p:cNvSpPr/>
          <p:nvPr/>
        </p:nvSpPr>
        <p:spPr>
          <a:xfrm>
            <a:off x="1930320" y="5589720"/>
            <a:ext cx="5922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負け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8"/>
          <p:cNvSpPr/>
          <p:nvPr/>
        </p:nvSpPr>
        <p:spPr>
          <a:xfrm>
            <a:off x="6256440" y="2625840"/>
            <a:ext cx="4550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花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9"/>
          <p:cNvSpPr/>
          <p:nvPr/>
        </p:nvSpPr>
        <p:spPr>
          <a:xfrm>
            <a:off x="5744520" y="5587920"/>
            <a:ext cx="8665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金のなる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線コネクタ 6"/>
          <p:cNvSpPr/>
          <p:nvPr/>
        </p:nvSpPr>
        <p:spPr>
          <a:xfrm>
            <a:off x="1793880" y="4292640"/>
            <a:ext cx="502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線コネクタ 11"/>
          <p:cNvSpPr/>
          <p:nvPr/>
        </p:nvSpPr>
        <p:spPr>
          <a:xfrm>
            <a:off x="4307040" y="2627280"/>
            <a:ext cx="0" cy="333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右矢印 1"/>
          <p:cNvSpPr/>
          <p:nvPr/>
        </p:nvSpPr>
        <p:spPr>
          <a:xfrm rot="18252600">
            <a:off x="2677320" y="5667480"/>
            <a:ext cx="704520" cy="640080"/>
          </a:xfrm>
          <a:prstGeom prst="rightArrow">
            <a:avLst>
              <a:gd name="adj1" fmla="val 50000"/>
              <a:gd name="adj2" fmla="val 498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06:50:17Z</dcterms:created>
  <dc:creator>Gihyo</dc:creator>
  <dc:description/>
  <dc:language>en-US</dc:language>
  <cp:lastModifiedBy>Gihyo</cp:lastModifiedBy>
  <dcterms:modified xsi:type="dcterms:W3CDTF">2010-09-14T03:30:53Z</dcterms:modified>
  <cp:revision>3</cp:revision>
  <dc:subject/>
  <dc:title>わが社の商品で、缶コーヒーが販売不振に陥っているので 早急にてこ入れ、即ち新製品の投入が必要である。</dc:title>
</cp:coreProperties>
</file>