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F45-9953-46C5-BBF1-4A3156F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953-5159-4DA5-BA9C-88FEF31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5AB-CE1C-4DE7-91EA-1862B5EC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9A0-43C3-41D3-96F5-B2FBC763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855-2806-48B4-9086-4075DEA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9F0-A5F3-408B-A307-14BA2AF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1F0-8EBF-45C0-B439-A65F38C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D61-29CF-43F2-A895-2444C42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89B-0185-4385-BD27-687D7D36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4BB-6035-43F6-AD7C-EACDE032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CE3-5D02-446A-8C8F-1701E5D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34D-6005-46CC-B56E-591E4BF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601-206B-4051-BD63-82EE4D715E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わが社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つの事業部のうち、自転車用品事業部が順調に売上を伸ばしてきている。この機に大きな販促を実施し、シェアの拡大を狙っ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7760" y="2492280"/>
            <a:ext cx="464976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99040" y="1670040"/>
            <a:ext cx="372096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099040" y="4165560"/>
            <a:ext cx="3720960" cy="2432160"/>
          </a:xfrm>
          <a:prstGeom prst="rect">
            <a:avLst/>
          </a:prstGeom>
          <a:ln w="0">
            <a:noFill/>
          </a:ln>
        </p:spPr>
      </p:pic>
      <p:sp>
        <p:nvSpPr>
          <p:cNvPr id="45" name="右矢印 4"/>
          <p:cNvSpPr/>
          <p:nvPr/>
        </p:nvSpPr>
        <p:spPr>
          <a:xfrm rot="21154200">
            <a:off x="971280" y="3215880"/>
            <a:ext cx="3313080" cy="28728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12"/>
          <p:cNvSpPr/>
          <p:nvPr/>
        </p:nvSpPr>
        <p:spPr>
          <a:xfrm rot="369000">
            <a:off x="5586480" y="227484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右矢印 13"/>
          <p:cNvSpPr/>
          <p:nvPr/>
        </p:nvSpPr>
        <p:spPr>
          <a:xfrm>
            <a:off x="5580000" y="459576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5"/>
          <p:cNvSpPr/>
          <p:nvPr/>
        </p:nvSpPr>
        <p:spPr>
          <a:xfrm>
            <a:off x="2079360" y="368928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右肩上がり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がって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5"/>
          <p:cNvSpPr/>
          <p:nvPr/>
        </p:nvSpPr>
        <p:spPr>
          <a:xfrm>
            <a:off x="6317640" y="267984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下がっ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6"/>
          <p:cNvSpPr/>
          <p:nvPr/>
        </p:nvSpPr>
        <p:spPr>
          <a:xfrm>
            <a:off x="6335280" y="490536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堅調に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移し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5:11:18Z</dcterms:created>
  <dc:creator>Gihyo</dc:creator>
  <dc:description/>
  <dc:language>en-US</dc:language>
  <cp:lastModifiedBy>Gihyo</cp:lastModifiedBy>
  <dcterms:modified xsi:type="dcterms:W3CDTF">2010-09-14T03:16:28Z</dcterms:modified>
  <cp:revision>3</cp:revision>
  <dc:subject/>
  <dc:title>PowerPoint プレゼンテーション</dc:title>
</cp:coreProperties>
</file>