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6BA-1D28-4B73-BAA4-5D95E7C4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6B8-A234-460D-A8CC-B42CB07B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371-BB21-4194-8810-F1405EAC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7DF-A371-4877-A9B2-066CE1AC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AB1-0AB4-453B-B007-06D3755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AB4-89DA-41D1-B0C8-5BB114E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08B-9AB0-4086-A9ED-619FA86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B74-57CC-4C43-BC0A-075861A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88E-ADC8-4743-89E1-143953F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F70-4C5E-429C-8A53-43AD92F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7F7-E609-495F-B97E-9C939306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A40-2CB4-4829-8161-30E4D67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593-4C44-4BCC-9983-C32882858A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月も引続き売上予算を達成し、順調に推移してきている。下期では上期と比較し、全体の業績が改善してきていると見受けられ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222880"/>
          </a:xfrm>
          <a:prstGeom prst="rect">
            <a:avLst/>
          </a:prstGeom>
          <a:ln w="0">
            <a:noFill/>
          </a:ln>
        </p:spPr>
      </p:pic>
      <p:sp>
        <p:nvSpPr>
          <p:cNvPr id="43" name="直線コネクタ 5"/>
          <p:cNvSpPr/>
          <p:nvPr/>
        </p:nvSpPr>
        <p:spPr>
          <a:xfrm flipH="1">
            <a:off x="1258920" y="3270240"/>
            <a:ext cx="6842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5:34:49Z</dcterms:created>
  <dc:creator>Gihyo</dc:creator>
  <dc:description/>
  <dc:language>en-US</dc:language>
  <cp:lastModifiedBy>Gihyo</cp:lastModifiedBy>
  <dcterms:modified xsi:type="dcterms:W3CDTF">2010-09-14T03:41:17Z</dcterms:modified>
  <cp:revision>2</cp:revision>
  <dc:subject/>
  <dc:title>11月も引続き売上予算を達成し、順調に推移してきている。下期では上期と比較し、全体の業績が改善してきていると見受けられる</dc:title>
</cp:coreProperties>
</file>