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AB6AA-E6E4-4422-97E3-42DBF2D74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F650B-2058-49C6-9DB6-2B7263B7A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EDEBE-5F50-4F9F-9A0F-595DA755A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89D88-E6B8-47C2-9FB2-035844467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54AB9-4102-489F-91DA-34BA30756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B3247-A328-4C40-BE81-DA9F94A6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F3B8-2098-4C2A-B07A-319173781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3850B-028B-49EF-9584-26814A073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F8D2F-C37E-42AC-BC52-6F6AD6594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0F622-9EBE-41C0-8BE5-FC7CDDAF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D5B9-9FCC-478B-9EB3-0AFACEF23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41CD-684A-433C-B38E-3B6506FB7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553F-3854-4872-A3AA-9A28770F884B}"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スタンダード」は価格弾力性が高く、値引きを行ったとしても、売上を維持するのに充分な販売数量の増加が見込めることがわかった。</a:t>
            </a:r>
            <a:br>
              <a:rPr sz="2400"/>
            </a:br>
            <a:r>
              <a:rPr b="1" lang="ja-JP" sz="2400" spc="-1" strike="noStrike">
                <a:solidFill>
                  <a:srgbClr val="000000"/>
                </a:solidFill>
                <a:latin typeface="Calibri"/>
              </a:rPr>
              <a:t>この分析結果を踏まえ、「スタンダード」については、新製品の投入に合わせて、価格を５％安く設定することで、マーケットシェアの拡大を目指す。</a:t>
            </a:r>
            <a:endParaRPr b="0" lang="en-US" sz="2400" spc="-1" strike="noStrike">
              <a:solidFill>
                <a:srgbClr val="000000"/>
              </a:solidFill>
              <a:latin typeface="Calibri"/>
            </a:endParaRPr>
          </a:p>
        </p:txBody>
      </p:sp>
      <p:sp>
        <p:nvSpPr>
          <p:cNvPr id="42" name="テキスト ボックス 4"/>
          <p:cNvSpPr/>
          <p:nvPr/>
        </p:nvSpPr>
        <p:spPr>
          <a:xfrm>
            <a:off x="2858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タンダード」は、価格弾力性が高く、５％程度の値引きまでは、売上を維持したまま、販売数量を増やすことができる。</a:t>
            </a:r>
            <a:endParaRPr b="0" lang="en-US" sz="1600" spc="-1" strike="noStrike">
              <a:solidFill>
                <a:srgbClr val="000000"/>
              </a:solidFill>
              <a:latin typeface="Calibri"/>
            </a:endParaRPr>
          </a:p>
        </p:txBody>
      </p:sp>
      <p:sp>
        <p:nvSpPr>
          <p:cNvPr id="43" name="テキスト ボックス 5"/>
          <p:cNvSpPr/>
          <p:nvPr/>
        </p:nvSpPr>
        <p:spPr>
          <a:xfrm>
            <a:off x="328608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イート」は、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sp>
        <p:nvSpPr>
          <p:cNvPr id="44" name="テキスト ボックス 6"/>
          <p:cNvSpPr/>
          <p:nvPr/>
        </p:nvSpPr>
        <p:spPr>
          <a:xfrm>
            <a:off x="62150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ビター 」も、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pic>
        <p:nvPicPr>
          <p:cNvPr id="45" name="Picture 2" descr=""/>
          <p:cNvPicPr/>
          <p:nvPr/>
        </p:nvPicPr>
        <p:blipFill>
          <a:blip r:embed="rId1"/>
          <a:stretch/>
        </p:blipFill>
        <p:spPr>
          <a:xfrm>
            <a:off x="285840" y="2637000"/>
            <a:ext cx="2849400" cy="2447640"/>
          </a:xfrm>
          <a:prstGeom prst="rect">
            <a:avLst/>
          </a:prstGeom>
          <a:ln w="0">
            <a:noFill/>
          </a:ln>
        </p:spPr>
      </p:pic>
      <p:pic>
        <p:nvPicPr>
          <p:cNvPr id="46" name="Picture 3" descr=""/>
          <p:cNvPicPr/>
          <p:nvPr/>
        </p:nvPicPr>
        <p:blipFill>
          <a:blip r:embed="rId2"/>
          <a:stretch/>
        </p:blipFill>
        <p:spPr>
          <a:xfrm>
            <a:off x="3286080" y="2637000"/>
            <a:ext cx="2798640" cy="2415960"/>
          </a:xfrm>
          <a:prstGeom prst="rect">
            <a:avLst/>
          </a:prstGeom>
          <a:ln w="0">
            <a:noFill/>
          </a:ln>
        </p:spPr>
      </p:pic>
      <p:pic>
        <p:nvPicPr>
          <p:cNvPr id="47" name="Picture 4" descr=""/>
          <p:cNvPicPr/>
          <p:nvPr/>
        </p:nvPicPr>
        <p:blipFill>
          <a:blip r:embed="rId3"/>
          <a:stretch/>
        </p:blipFill>
        <p:spPr>
          <a:xfrm>
            <a:off x="6215040" y="2637000"/>
            <a:ext cx="280512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2:46:04Z</dcterms:created>
  <dc:creator>Gihyo</dc:creator>
  <dc:description/>
  <dc:language>en-US</dc:language>
  <cp:lastModifiedBy>Gihyo</cp:lastModifiedBy>
  <dcterms:modified xsi:type="dcterms:W3CDTF">2010-09-14T03:32:05Z</dcterms:modified>
  <cp:revision>1</cp:revision>
  <dc:subject/>
  <dc:title>「スタンダード」は価格弾力性が高く、値引きを行ったとしても、売上を維持するのに充分な販売数量の増加が見込めることがわかった。 この分析結果を踏まえ、「スタンダード」については、新製品の投入に合わせて、価格を５％安く設定することで、マーケットシェアの拡大を目指す。</dc:title>
</cp:coreProperties>
</file>