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8282-2D73-4E01-A5DD-A054060C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2E16-2C5C-442F-B825-1D35032B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3F4E-E118-4CC2-88DD-4CC8AF570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9049-5043-4CBB-BC92-FF3DB9EA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25A7-70BB-4BC5-ACE1-B603AA27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A0D8-1D45-48F0-838B-0613124F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AE51-18AA-4FC4-ACF3-04DB7408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3896-E510-4EFE-9649-8776257C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348A-01FA-4E64-84CD-5AC9BFBC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1A54-93B9-4B73-A1AC-3364A38C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26F9-AF1E-4E51-B332-247DA7B4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052C-0D85-4539-9162-E2E3DBC5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D6F5-1FA6-48E9-BBC2-2DE7B36C1F9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年上期は広告宣伝費と販売促進費が販売費・一般費の合計の半分ほどを占め、大きな負担となっている。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費用削減のためには、広告宣伝費と販売促進費の効果測定を行ない、その効果をきちんと精査していく必要があると思われ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539640" y="1542960"/>
            <a:ext cx="8064720" cy="5270760"/>
          </a:xfrm>
          <a:prstGeom prst="rect">
            <a:avLst/>
          </a:prstGeom>
          <a:ln w="0">
            <a:noFill/>
          </a:ln>
        </p:spPr>
      </p:pic>
      <p:sp>
        <p:nvSpPr>
          <p:cNvPr id="43" name="円/楕円 4"/>
          <p:cNvSpPr/>
          <p:nvPr/>
        </p:nvSpPr>
        <p:spPr>
          <a:xfrm>
            <a:off x="7236000" y="3255840"/>
            <a:ext cx="136836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5"/>
          <p:cNvSpPr/>
          <p:nvPr/>
        </p:nvSpPr>
        <p:spPr>
          <a:xfrm>
            <a:off x="6366600" y="229716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ff0000"/>
                </a:solidFill>
                <a:latin typeface="Calibri"/>
              </a:rPr>
              <a:t>広告宣伝費と販売促進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ff0000"/>
                </a:solidFill>
                <a:latin typeface="Calibri"/>
              </a:rPr>
              <a:t>で全体の</a:t>
            </a: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4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右矢印 6"/>
          <p:cNvSpPr/>
          <p:nvPr/>
        </p:nvSpPr>
        <p:spPr>
          <a:xfrm rot="323400">
            <a:off x="4832280" y="3028680"/>
            <a:ext cx="2239920" cy="52848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右矢印 8"/>
          <p:cNvSpPr/>
          <p:nvPr/>
        </p:nvSpPr>
        <p:spPr>
          <a:xfrm rot="20502600">
            <a:off x="5005080" y="3973320"/>
            <a:ext cx="2239920" cy="527040"/>
          </a:xfrm>
          <a:prstGeom prst="rightArrow">
            <a:avLst>
              <a:gd name="adj1" fmla="val 50000"/>
              <a:gd name="adj2" fmla="val 50095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07:41:00Z</dcterms:created>
  <dc:creator>Gihyo</dc:creator>
  <dc:description/>
  <dc:language>en-US</dc:language>
  <cp:lastModifiedBy>Gihyo</cp:lastModifiedBy>
  <dcterms:modified xsi:type="dcterms:W3CDTF">2010-09-14T03:43:40Z</dcterms:modified>
  <cp:revision>2</cp:revision>
  <dc:subject/>
  <dc:title>2010年上期は広告宣伝費と販売促進費が販売費・一般費の合計の半分ほどを占め、大きな負担となっている。 費用削減のためには、広告宣伝費と販売促進費の効果測定を行ない、その効果をきちんと精査していく必要があると思われる。</dc:title>
</cp:coreProperties>
</file>