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5EF-A428-42EE-B5B2-1328388C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FEE-CB38-405F-A379-05F370B7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8A6-2767-4549-B335-A06E3E04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EE9-CAB9-4EF1-99FA-F0582BD0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0511-84A0-43FB-B879-01BF41E4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3590-22B2-484F-BB9D-33801E80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EEF2-6753-451B-A828-FE44C50D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001E-0E2B-49EE-A8B3-BA7A3932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63B6-F9E3-4DDE-8DC6-A96F926D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72BA-AACB-4FE1-A12A-F158F202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BE23-CAAC-43E7-992D-EC2EBAC7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1D9-6FF7-4C73-B064-A495CC7B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66AF-7E83-464B-8B68-0588A90A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262D-E1C5-47D9-9845-94A8AE75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517D-22A2-44CB-AAB2-BA1F266F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BBC2-9098-4F93-A80A-0FDFBF56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6C0D-A4FA-4C5A-B893-6AF6470C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6706F-643F-4CF7-A2E4-4146AAAE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0C6A0-2D80-4903-9D9D-0CC40DE2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7F31B-ACCE-4814-954E-17A5AD93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956C3-C4AE-40E7-84C7-B9C7AEC7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293A3-F499-4857-9DEA-97D13D2C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783-A960-4B27-BCEE-45C96A50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F3C58-A656-4386-AADD-6B1F048D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002AB-6D9A-4115-B50E-1DBDDAA3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A292E-1DCE-4C1B-A098-1EA909CA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E8CD0-E632-4EC0-BA99-B5E0ED9F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E886-7AAD-450B-BDEC-E80786F3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EC763-2360-4B48-AC98-E6BC3CFC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5EC25-2A42-4DF5-9976-46B5AAE9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895A8-1BBB-4464-9F8C-76494CD8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6D489-F7E0-408E-A576-6A18D90D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8C129-1B74-4537-8379-1CB3C976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6D4-B17A-421F-8EA4-66E5876F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1559C-A92B-43F5-9448-B46FB95F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E29AE-A155-4C59-BE2F-F7B89E2C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CCAC6-CADA-4498-AB5C-FD0E9305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1C263-82F8-4AA8-8B08-36AA65AC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3B9F1-E67F-437C-AD92-D16F3B05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77BEC-2806-46FF-BA40-360D01F8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F9E8C-81DC-45E4-9CBC-37AC9293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89027-34FC-4D7C-81CB-AA56A854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EAB35-1CEA-4D48-ACBD-1048B15A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F51B5-CFC5-463F-B3B8-A11678F8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B231-BA10-4A88-B8B1-671F0E58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39F14-3244-4955-962D-0BF67CB6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2D1F0-695B-4C03-BD4B-905833E2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822EC-E251-42BA-8B00-104578EB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81E93-EC4E-4D0E-B4CE-71246D5E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33096-A5DA-421C-A192-DF34C516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B553C-1328-4930-8ED6-CB536326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0ECEB-34EB-46AD-81F8-BCE39D90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9D489-0F0F-4BA6-82F3-D5166FA7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70623-5561-448B-BEEC-607B2EA2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D7648-A506-465D-9F1B-EB4BADA7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FC9-50E6-426F-9C9F-F6CD1F6F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16AD5-1353-48DF-A439-34F9EB91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EB87A-A2DB-4F02-B1A8-CF7A2E1C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FF065-700E-4391-8DC2-41165839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DC187-70C3-49BF-BA7F-270416D9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A62CF-F6C6-4CAC-A87C-E6F334CA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FE404-7624-4991-B9A0-4EA054C1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6A843-CCBD-4EEB-8587-D4FE1732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6F12F-F5A7-4F52-B72B-FB6306DD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15273-F4C3-47DF-914A-4E3CE890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06C1D-6331-428A-8CB0-8F75230D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DF21-7D16-4A5A-8F40-F9014904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DC19E-37F7-475F-ABA3-E90B8675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F7CA9-EF18-4502-8D65-DA605065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BE797-B9B2-48ED-87FA-D736BBD0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2FAC4-CAEF-41B0-9E82-761E0102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FD5E0-EF5A-47BC-9091-F940CF63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7E53D-4EE5-4DAF-8A88-6C3F0A43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D7629-DD6B-4A27-95BE-3F239C28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3ACC5-97C5-4AAC-BF11-84B29C29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2D786-A899-43F6-A820-8D74F7EC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16995-7154-42F9-85A4-2AFC4A70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60B-1B18-43A4-8C50-D486F7A8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890ED-7145-473D-AE9B-62A63639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FEEAA-D9FE-4C41-B0A0-2089D477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7D302-A048-4C6C-8EA4-CA40BE9E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2800F-CBD4-4FC8-B2D2-8F572D52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3793E-7159-40EC-9FD7-1D7398D0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D57C6-62DF-4893-A0DD-4B9522CC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4112B-E418-4519-9720-9940C339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9F94D-71C6-41FF-92AE-E53AB235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B5108-FFDB-4792-8F49-F99C802E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6F5BC-ADBE-4A1D-9715-F21D45CD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6CD-57F4-4B3A-A2AC-4FA26312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86882-4915-4504-B18D-9AAFBDBA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D8933-FEE0-42B9-BF76-B8FE49BA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CE702-B4F1-4559-93A2-4E25131C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1742C-B4D8-4E35-8E11-A758B21E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CEB8D-52A1-4715-8B8E-FC08C0A1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A4452-89CA-4079-80A7-5C805FB7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22968-FF07-4AA0-8D6B-CDAEA5E7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2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842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2" marL="7128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3" marL="9414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4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5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6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5655-33F9-4A76-805E-BA153E7DF192}" type="slidenum"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6" name="Rectangle 20"/>
            <p:cNvGrpSpPr/>
            <p:nvPr/>
          </p:nvGrpSpPr>
          <p:grpSpPr>
            <a:xfrm>
              <a:off x="20880" y="5760"/>
              <a:ext cx="62640" cy="6852240"/>
              <a:chOff x="20880" y="5760"/>
              <a:chExt cx="62640" cy="6852240"/>
            </a:xfrm>
          </p:grpSpPr>
          <p:pic>
            <p:nvPicPr>
              <p:cNvPr id="7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5760"/>
                <a:ext cx="6264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>
                <a:off x="34200" y="17640"/>
                <a:ext cx="3492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9" name="Rectangle 13"/>
            <p:cNvGrpSpPr/>
            <p:nvPr/>
          </p:nvGrpSpPr>
          <p:grpSpPr>
            <a:xfrm>
              <a:off x="0" y="0"/>
              <a:ext cx="46800" cy="6858000"/>
              <a:chOff x="0" y="0"/>
              <a:chExt cx="46800" cy="6858000"/>
            </a:xfrm>
          </p:grpSpPr>
          <p:pic>
            <p:nvPicPr>
              <p:cNvPr id="10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2" name="Rectangle 15"/>
            <p:cNvGrpSpPr/>
            <p:nvPr/>
          </p:nvGrpSpPr>
          <p:grpSpPr>
            <a:xfrm>
              <a:off x="52200" y="5760"/>
              <a:ext cx="46800" cy="6852240"/>
              <a:chOff x="52200" y="5760"/>
              <a:chExt cx="46800" cy="6852240"/>
            </a:xfrm>
          </p:grpSpPr>
          <p:pic>
            <p:nvPicPr>
              <p:cNvPr id="13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>
                <a:off x="676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5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16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8" name="Rectangle 17"/>
            <p:cNvGrpSpPr/>
            <p:nvPr/>
          </p:nvGrpSpPr>
          <p:grpSpPr>
            <a:xfrm>
              <a:off x="104400" y="5760"/>
              <a:ext cx="46800" cy="6852240"/>
              <a:chOff x="104400" y="5760"/>
              <a:chExt cx="46800" cy="6852240"/>
            </a:xfrm>
          </p:grpSpPr>
          <p:pic>
            <p:nvPicPr>
              <p:cNvPr id="19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" name=""/>
              <p:cNvSpPr/>
              <p:nvPr/>
            </p:nvSpPr>
            <p:spPr>
              <a:xfrm>
                <a:off x="1198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1" name="Rectangle 18"/>
            <p:cNvGrpSpPr/>
            <p:nvPr/>
          </p:nvGrpSpPr>
          <p:grpSpPr>
            <a:xfrm>
              <a:off x="125280" y="5760"/>
              <a:ext cx="41760" cy="6852240"/>
              <a:chOff x="125280" y="5760"/>
              <a:chExt cx="41760" cy="6852240"/>
            </a:xfrm>
          </p:grpSpPr>
          <p:pic>
            <p:nvPicPr>
              <p:cNvPr id="22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528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" name=""/>
              <p:cNvSpPr/>
              <p:nvPr/>
            </p:nvSpPr>
            <p:spPr>
              <a:xfrm>
                <a:off x="13716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4" name="Rectangle 19"/>
            <p:cNvGrpSpPr/>
            <p:nvPr/>
          </p:nvGrpSpPr>
          <p:grpSpPr>
            <a:xfrm>
              <a:off x="140760" y="5760"/>
              <a:ext cx="41760" cy="6852240"/>
              <a:chOff x="140760" y="5760"/>
              <a:chExt cx="41760" cy="6852240"/>
            </a:xfrm>
          </p:grpSpPr>
          <p:pic>
            <p:nvPicPr>
              <p:cNvPr id="25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" name=""/>
              <p:cNvSpPr/>
              <p:nvPr/>
            </p:nvSpPr>
            <p:spPr>
              <a:xfrm>
                <a:off x="15444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7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28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traight Connector 31"/>
          <p:cNvSpPr/>
          <p:nvPr/>
        </p:nvSpPr>
        <p:spPr>
          <a:xfrm>
            <a:off x="0" y="3579840"/>
            <a:ext cx="9144000" cy="1440"/>
          </a:xfrm>
          <a:prstGeom prst="line">
            <a:avLst/>
          </a:prstGeom>
          <a:ln w="64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67" name="Group 22"/>
          <p:cNvGrpSpPr/>
          <p:nvPr/>
        </p:nvGrpSpPr>
        <p:grpSpPr>
          <a:xfrm>
            <a:off x="19080" y="6765840"/>
            <a:ext cx="9124920" cy="92160"/>
            <a:chOff x="19080" y="6765840"/>
            <a:chExt cx="9124920" cy="92160"/>
          </a:xfrm>
        </p:grpSpPr>
        <p:grpSp>
          <p:nvGrpSpPr>
            <p:cNvPr id="68" name="Rectangle 8"/>
            <p:cNvGrpSpPr/>
            <p:nvPr/>
          </p:nvGrpSpPr>
          <p:grpSpPr>
            <a:xfrm>
              <a:off x="19080" y="6774480"/>
              <a:ext cx="9124920" cy="39600"/>
              <a:chOff x="19080" y="6774480"/>
              <a:chExt cx="9124920" cy="39600"/>
            </a:xfrm>
          </p:grpSpPr>
          <p:pic>
            <p:nvPicPr>
              <p:cNvPr id="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9080" y="6774480"/>
                <a:ext cx="9124920" cy="3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rot="5400000">
                <a:off x="4574160" y="2243520"/>
                <a:ext cx="14760" cy="9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71" name="Rectangle 9"/>
            <p:cNvGrpSpPr/>
            <p:nvPr/>
          </p:nvGrpSpPr>
          <p:grpSpPr>
            <a:xfrm>
              <a:off x="19080" y="6765840"/>
              <a:ext cx="9124920" cy="30600"/>
              <a:chOff x="19080" y="6765840"/>
              <a:chExt cx="9124920" cy="30600"/>
            </a:xfrm>
          </p:grpSpPr>
          <p:pic>
            <p:nvPicPr>
              <p:cNvPr id="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9080" y="6765840"/>
                <a:ext cx="9124920" cy="3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 rot="5400000">
                <a:off x="4578120" y="2231640"/>
                <a:ext cx="7200" cy="9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74" name="Rectangle 10"/>
            <p:cNvGrpSpPr/>
            <p:nvPr/>
          </p:nvGrpSpPr>
          <p:grpSpPr>
            <a:xfrm>
              <a:off x="19080" y="6787800"/>
              <a:ext cx="9124920" cy="30600"/>
              <a:chOff x="19080" y="6787800"/>
              <a:chExt cx="9124920" cy="30600"/>
            </a:xfrm>
          </p:grpSpPr>
          <p:pic>
            <p:nvPicPr>
              <p:cNvPr id="75" name="Rectangl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80" y="6787800"/>
                <a:ext cx="9124920" cy="3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 rot="5400000">
                <a:off x="4578120" y="2253960"/>
                <a:ext cx="7200" cy="9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77" name="Rectangle 11"/>
            <p:cNvGrpSpPr/>
            <p:nvPr/>
          </p:nvGrpSpPr>
          <p:grpSpPr>
            <a:xfrm>
              <a:off x="19080" y="6805440"/>
              <a:ext cx="9124920" cy="26280"/>
              <a:chOff x="19080" y="6805440"/>
              <a:chExt cx="9124920" cy="26280"/>
            </a:xfrm>
          </p:grpSpPr>
          <p:pic>
            <p:nvPicPr>
              <p:cNvPr id="78" name="Rectangl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80" y="6805440"/>
                <a:ext cx="9124920" cy="2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 rot="5400000">
                <a:off x="4579560" y="2267280"/>
                <a:ext cx="4320" cy="9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80" name="Rectangle 12"/>
            <p:cNvGrpSpPr/>
            <p:nvPr/>
          </p:nvGrpSpPr>
          <p:grpSpPr>
            <a:xfrm>
              <a:off x="19080" y="6809760"/>
              <a:ext cx="9124920" cy="30600"/>
              <a:chOff x="19080" y="6809760"/>
              <a:chExt cx="9124920" cy="30600"/>
            </a:xfrm>
          </p:grpSpPr>
          <p:pic>
            <p:nvPicPr>
              <p:cNvPr id="81" name="Rectangl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19080" y="6809760"/>
                <a:ext cx="9124920" cy="3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 rot="5400000">
                <a:off x="4578120" y="2275920"/>
                <a:ext cx="7200" cy="9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83" name="Rectangle 13"/>
            <p:cNvGrpSpPr/>
            <p:nvPr/>
          </p:nvGrpSpPr>
          <p:grpSpPr>
            <a:xfrm>
              <a:off x="19080" y="6818400"/>
              <a:ext cx="9124920" cy="30600"/>
              <a:chOff x="19080" y="6818400"/>
              <a:chExt cx="9124920" cy="30600"/>
            </a:xfrm>
          </p:grpSpPr>
          <p:pic>
            <p:nvPicPr>
              <p:cNvPr id="84" name="Rectangl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19080" y="6818400"/>
                <a:ext cx="9124920" cy="3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 rot="5400000">
                <a:off x="4578120" y="2283120"/>
                <a:ext cx="7200" cy="9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86" name="Rectangle 14"/>
            <p:cNvGrpSpPr/>
            <p:nvPr/>
          </p:nvGrpSpPr>
          <p:grpSpPr>
            <a:xfrm>
              <a:off x="19080" y="6827400"/>
              <a:ext cx="9124920" cy="30600"/>
              <a:chOff x="19080" y="6827400"/>
              <a:chExt cx="9124920" cy="30600"/>
            </a:xfrm>
          </p:grpSpPr>
          <p:pic>
            <p:nvPicPr>
              <p:cNvPr id="8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9080" y="6827400"/>
                <a:ext cx="9124920" cy="3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 rot="5400000">
                <a:off x="4578120" y="2290680"/>
                <a:ext cx="7200" cy="9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89" name="Rectangle 15"/>
            <p:cNvGrpSpPr/>
            <p:nvPr/>
          </p:nvGrpSpPr>
          <p:grpSpPr>
            <a:xfrm>
              <a:off x="19080" y="6783120"/>
              <a:ext cx="9124920" cy="26280"/>
              <a:chOff x="19080" y="6783120"/>
              <a:chExt cx="9124920" cy="26280"/>
            </a:xfrm>
          </p:grpSpPr>
          <p:pic>
            <p:nvPicPr>
              <p:cNvPr id="90" name="Rectangle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080" y="6783120"/>
                <a:ext cx="9124920" cy="2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 rot="5400000">
                <a:off x="4578120" y="2246040"/>
                <a:ext cx="7200" cy="9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842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2" marL="7128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3" marL="9414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4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5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6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68544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552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327720" y="6508800"/>
            <a:ext cx="2130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A9D4-0C0E-4285-B00C-0DCD9E1C1B3A}" type="slidenum"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134" name="Rectangle 20"/>
            <p:cNvGrpSpPr/>
            <p:nvPr/>
          </p:nvGrpSpPr>
          <p:grpSpPr>
            <a:xfrm>
              <a:off x="20880" y="5760"/>
              <a:ext cx="62640" cy="6852240"/>
              <a:chOff x="20880" y="5760"/>
              <a:chExt cx="62640" cy="6852240"/>
            </a:xfrm>
          </p:grpSpPr>
          <p:pic>
            <p:nvPicPr>
              <p:cNvPr id="135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5760"/>
                <a:ext cx="6264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34200" y="17640"/>
                <a:ext cx="3492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37" name="Rectangle 13"/>
            <p:cNvGrpSpPr/>
            <p:nvPr/>
          </p:nvGrpSpPr>
          <p:grpSpPr>
            <a:xfrm>
              <a:off x="0" y="0"/>
              <a:ext cx="46800" cy="6858000"/>
              <a:chOff x="0" y="0"/>
              <a:chExt cx="46800" cy="6858000"/>
            </a:xfrm>
          </p:grpSpPr>
          <p:pic>
            <p:nvPicPr>
              <p:cNvPr id="138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40" name="Rectangle 15"/>
            <p:cNvGrpSpPr/>
            <p:nvPr/>
          </p:nvGrpSpPr>
          <p:grpSpPr>
            <a:xfrm>
              <a:off x="52200" y="5760"/>
              <a:ext cx="46800" cy="6852240"/>
              <a:chOff x="52200" y="5760"/>
              <a:chExt cx="46800" cy="6852240"/>
            </a:xfrm>
          </p:grpSpPr>
          <p:pic>
            <p:nvPicPr>
              <p:cNvPr id="141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676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43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144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46" name="Rectangle 17"/>
            <p:cNvGrpSpPr/>
            <p:nvPr/>
          </p:nvGrpSpPr>
          <p:grpSpPr>
            <a:xfrm>
              <a:off x="104400" y="5760"/>
              <a:ext cx="46800" cy="6852240"/>
              <a:chOff x="104400" y="5760"/>
              <a:chExt cx="46800" cy="6852240"/>
            </a:xfrm>
          </p:grpSpPr>
          <p:pic>
            <p:nvPicPr>
              <p:cNvPr id="147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1198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49" name="Rectangle 18"/>
            <p:cNvGrpSpPr/>
            <p:nvPr/>
          </p:nvGrpSpPr>
          <p:grpSpPr>
            <a:xfrm>
              <a:off x="125280" y="5760"/>
              <a:ext cx="41760" cy="6852240"/>
              <a:chOff x="125280" y="5760"/>
              <a:chExt cx="41760" cy="6852240"/>
            </a:xfrm>
          </p:grpSpPr>
          <p:pic>
            <p:nvPicPr>
              <p:cNvPr id="150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528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13716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52" name="Rectangle 19"/>
            <p:cNvGrpSpPr/>
            <p:nvPr/>
          </p:nvGrpSpPr>
          <p:grpSpPr>
            <a:xfrm>
              <a:off x="140760" y="5760"/>
              <a:ext cx="41760" cy="6852240"/>
              <a:chOff x="140760" y="5760"/>
              <a:chExt cx="41760" cy="6852240"/>
            </a:xfrm>
          </p:grpSpPr>
          <p:pic>
            <p:nvPicPr>
              <p:cNvPr id="153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15444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55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156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sp>
        <p:nvSpPr>
          <p:cNvPr id="158" name="Straight Connector 6"/>
          <p:cNvSpPr/>
          <p:nvPr/>
        </p:nvSpPr>
        <p:spPr>
          <a:xfrm>
            <a:off x="1322280" y="4419720"/>
            <a:ext cx="7315200" cy="1440"/>
          </a:xfrm>
          <a:prstGeom prst="line">
            <a:avLst/>
          </a:prstGeom>
          <a:ln w="64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842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2" marL="7128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3" marL="9414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4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5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6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E98F-FAAB-4533-861E-A121083DF4F0}" type="slidenum"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201" name="Rectangle 20"/>
            <p:cNvGrpSpPr/>
            <p:nvPr/>
          </p:nvGrpSpPr>
          <p:grpSpPr>
            <a:xfrm>
              <a:off x="20880" y="5760"/>
              <a:ext cx="62640" cy="6852240"/>
              <a:chOff x="20880" y="5760"/>
              <a:chExt cx="62640" cy="6852240"/>
            </a:xfrm>
          </p:grpSpPr>
          <p:pic>
            <p:nvPicPr>
              <p:cNvPr id="202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5760"/>
                <a:ext cx="6264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34200" y="17640"/>
                <a:ext cx="3492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04" name="Rectangle 13"/>
            <p:cNvGrpSpPr/>
            <p:nvPr/>
          </p:nvGrpSpPr>
          <p:grpSpPr>
            <a:xfrm>
              <a:off x="0" y="0"/>
              <a:ext cx="46800" cy="6858000"/>
              <a:chOff x="0" y="0"/>
              <a:chExt cx="46800" cy="6858000"/>
            </a:xfrm>
          </p:grpSpPr>
          <p:pic>
            <p:nvPicPr>
              <p:cNvPr id="205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07" name="Rectangle 15"/>
            <p:cNvGrpSpPr/>
            <p:nvPr/>
          </p:nvGrpSpPr>
          <p:grpSpPr>
            <a:xfrm>
              <a:off x="52200" y="5760"/>
              <a:ext cx="46800" cy="6852240"/>
              <a:chOff x="52200" y="5760"/>
              <a:chExt cx="46800" cy="6852240"/>
            </a:xfrm>
          </p:grpSpPr>
          <p:pic>
            <p:nvPicPr>
              <p:cNvPr id="208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676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10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211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13" name="Rectangle 17"/>
            <p:cNvGrpSpPr/>
            <p:nvPr/>
          </p:nvGrpSpPr>
          <p:grpSpPr>
            <a:xfrm>
              <a:off x="104400" y="5760"/>
              <a:ext cx="46800" cy="6852240"/>
              <a:chOff x="104400" y="5760"/>
              <a:chExt cx="46800" cy="6852240"/>
            </a:xfrm>
          </p:grpSpPr>
          <p:pic>
            <p:nvPicPr>
              <p:cNvPr id="214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198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16" name="Rectangle 18"/>
            <p:cNvGrpSpPr/>
            <p:nvPr/>
          </p:nvGrpSpPr>
          <p:grpSpPr>
            <a:xfrm>
              <a:off x="125280" y="5760"/>
              <a:ext cx="41760" cy="6852240"/>
              <a:chOff x="125280" y="5760"/>
              <a:chExt cx="41760" cy="6852240"/>
            </a:xfrm>
          </p:grpSpPr>
          <p:pic>
            <p:nvPicPr>
              <p:cNvPr id="217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528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13716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19" name="Rectangle 19"/>
            <p:cNvGrpSpPr/>
            <p:nvPr/>
          </p:nvGrpSpPr>
          <p:grpSpPr>
            <a:xfrm>
              <a:off x="140760" y="5760"/>
              <a:ext cx="41760" cy="6852240"/>
              <a:chOff x="140760" y="5760"/>
              <a:chExt cx="41760" cy="6852240"/>
            </a:xfrm>
          </p:grpSpPr>
          <p:pic>
            <p:nvPicPr>
              <p:cNvPr id="220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15444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22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223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sp>
        <p:nvSpPr>
          <p:cNvPr id="225" name="Straight Connector 9"/>
          <p:cNvSpPr/>
          <p:nvPr/>
        </p:nvSpPr>
        <p:spPr>
          <a:xfrm>
            <a:off x="1295280" y="2298600"/>
            <a:ext cx="7239240" cy="1800"/>
          </a:xfrm>
          <a:prstGeom prst="line">
            <a:avLst/>
          </a:prstGeom>
          <a:ln w="64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842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2" marL="7128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3" marL="9414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4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5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6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CD94-0BEC-435A-B3C9-DF515B5873D9}" type="slidenum"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268" name="Rectangle 6"/>
            <p:cNvGrpSpPr/>
            <p:nvPr/>
          </p:nvGrpSpPr>
          <p:grpSpPr>
            <a:xfrm>
              <a:off x="20880" y="5760"/>
              <a:ext cx="62640" cy="6852240"/>
              <a:chOff x="20880" y="5760"/>
              <a:chExt cx="62640" cy="6852240"/>
            </a:xfrm>
          </p:grpSpPr>
          <p:pic>
            <p:nvPicPr>
              <p:cNvPr id="269" name="Rectangle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5760"/>
                <a:ext cx="6264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34200" y="17640"/>
                <a:ext cx="3492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71" name="Rectangle 7"/>
            <p:cNvGrpSpPr/>
            <p:nvPr/>
          </p:nvGrpSpPr>
          <p:grpSpPr>
            <a:xfrm>
              <a:off x="0" y="0"/>
              <a:ext cx="46800" cy="6858000"/>
              <a:chOff x="0" y="0"/>
              <a:chExt cx="46800" cy="6858000"/>
            </a:xfrm>
          </p:grpSpPr>
          <p:pic>
            <p:nvPicPr>
              <p:cNvPr id="272" name="Rectangl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74" name="Rectangle 8"/>
            <p:cNvGrpSpPr/>
            <p:nvPr/>
          </p:nvGrpSpPr>
          <p:grpSpPr>
            <a:xfrm>
              <a:off x="52200" y="5760"/>
              <a:ext cx="46800" cy="6852240"/>
              <a:chOff x="52200" y="5760"/>
              <a:chExt cx="46800" cy="6852240"/>
            </a:xfrm>
          </p:grpSpPr>
          <p:pic>
            <p:nvPicPr>
              <p:cNvPr id="275" name="Rectangle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676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77" name="Rectangle 9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278" name="Rectangle 9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80" name="Rectangle 10"/>
            <p:cNvGrpSpPr/>
            <p:nvPr/>
          </p:nvGrpSpPr>
          <p:grpSpPr>
            <a:xfrm>
              <a:off x="104400" y="5760"/>
              <a:ext cx="46800" cy="6852240"/>
              <a:chOff x="104400" y="5760"/>
              <a:chExt cx="46800" cy="6852240"/>
            </a:xfrm>
          </p:grpSpPr>
          <p:pic>
            <p:nvPicPr>
              <p:cNvPr id="281" name="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1198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83" name="Rectangle 11"/>
            <p:cNvGrpSpPr/>
            <p:nvPr/>
          </p:nvGrpSpPr>
          <p:grpSpPr>
            <a:xfrm>
              <a:off x="125280" y="5760"/>
              <a:ext cx="41760" cy="6852240"/>
              <a:chOff x="125280" y="5760"/>
              <a:chExt cx="41760" cy="6852240"/>
            </a:xfrm>
          </p:grpSpPr>
          <p:pic>
            <p:nvPicPr>
              <p:cNvPr id="284" name="Rectangle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12528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13716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86" name="Rectangle 12"/>
            <p:cNvGrpSpPr/>
            <p:nvPr/>
          </p:nvGrpSpPr>
          <p:grpSpPr>
            <a:xfrm>
              <a:off x="140760" y="5760"/>
              <a:ext cx="41760" cy="6852240"/>
              <a:chOff x="140760" y="5760"/>
              <a:chExt cx="41760" cy="6852240"/>
            </a:xfrm>
          </p:grpSpPr>
          <p:pic>
            <p:nvPicPr>
              <p:cNvPr id="287" name="Rectangle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15444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89" name="Rectangle 13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290" name="Rectangle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842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2" marL="7128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3" marL="9414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4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5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6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3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4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5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092B-AACE-4E4E-9329-4AF4936E63D2}" type="slidenum"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334" name="Rectangle 5"/>
            <p:cNvGrpSpPr/>
            <p:nvPr/>
          </p:nvGrpSpPr>
          <p:grpSpPr>
            <a:xfrm>
              <a:off x="20880" y="5760"/>
              <a:ext cx="62640" cy="6852240"/>
              <a:chOff x="20880" y="5760"/>
              <a:chExt cx="62640" cy="6852240"/>
            </a:xfrm>
          </p:grpSpPr>
          <p:pic>
            <p:nvPicPr>
              <p:cNvPr id="335" name="Rectangl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5760"/>
                <a:ext cx="6264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34200" y="17640"/>
                <a:ext cx="3492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337" name="Rectangle 6"/>
            <p:cNvGrpSpPr/>
            <p:nvPr/>
          </p:nvGrpSpPr>
          <p:grpSpPr>
            <a:xfrm>
              <a:off x="0" y="0"/>
              <a:ext cx="46800" cy="6858000"/>
              <a:chOff x="0" y="0"/>
              <a:chExt cx="46800" cy="6858000"/>
            </a:xfrm>
          </p:grpSpPr>
          <p:pic>
            <p:nvPicPr>
              <p:cNvPr id="338" name="Rectangl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340" name="Rectangle 7"/>
            <p:cNvGrpSpPr/>
            <p:nvPr/>
          </p:nvGrpSpPr>
          <p:grpSpPr>
            <a:xfrm>
              <a:off x="52200" y="5760"/>
              <a:ext cx="46800" cy="6852240"/>
              <a:chOff x="52200" y="5760"/>
              <a:chExt cx="46800" cy="6852240"/>
            </a:xfrm>
          </p:grpSpPr>
          <p:pic>
            <p:nvPicPr>
              <p:cNvPr id="341" name="Rectangl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76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343" name="Rectangle 8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344" name="Rectangl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346" name="Rectangle 9"/>
            <p:cNvGrpSpPr/>
            <p:nvPr/>
          </p:nvGrpSpPr>
          <p:grpSpPr>
            <a:xfrm>
              <a:off x="104400" y="5760"/>
              <a:ext cx="46800" cy="6852240"/>
              <a:chOff x="104400" y="5760"/>
              <a:chExt cx="46800" cy="6852240"/>
            </a:xfrm>
          </p:grpSpPr>
          <p:pic>
            <p:nvPicPr>
              <p:cNvPr id="347" name="Rectangle 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>
                <a:off x="1198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349" name="Rectangle 10"/>
            <p:cNvGrpSpPr/>
            <p:nvPr/>
          </p:nvGrpSpPr>
          <p:grpSpPr>
            <a:xfrm>
              <a:off x="125280" y="5760"/>
              <a:ext cx="41760" cy="6852240"/>
              <a:chOff x="125280" y="5760"/>
              <a:chExt cx="41760" cy="6852240"/>
            </a:xfrm>
          </p:grpSpPr>
          <p:pic>
            <p:nvPicPr>
              <p:cNvPr id="350" name="Rectangle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528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>
                <a:off x="13716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352" name="Rectangle 11"/>
            <p:cNvGrpSpPr/>
            <p:nvPr/>
          </p:nvGrpSpPr>
          <p:grpSpPr>
            <a:xfrm>
              <a:off x="140760" y="5760"/>
              <a:ext cx="41760" cy="6852240"/>
              <a:chOff x="140760" y="5760"/>
              <a:chExt cx="41760" cy="6852240"/>
            </a:xfrm>
          </p:grpSpPr>
          <p:pic>
            <p:nvPicPr>
              <p:cNvPr id="353" name="Rectangle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>
                <a:off x="15444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355" name="Rectangle 12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356" name="Rectangle 12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842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2" marL="7128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3" marL="9414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4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5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6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6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7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8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18D3-5076-4F55-989D-A0B0E7AE6E33}" type="slidenum"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400" name="Rectangle 20"/>
            <p:cNvGrpSpPr/>
            <p:nvPr/>
          </p:nvGrpSpPr>
          <p:grpSpPr>
            <a:xfrm>
              <a:off x="20880" y="5760"/>
              <a:ext cx="62640" cy="6852240"/>
              <a:chOff x="20880" y="5760"/>
              <a:chExt cx="62640" cy="6852240"/>
            </a:xfrm>
          </p:grpSpPr>
          <p:pic>
            <p:nvPicPr>
              <p:cNvPr id="401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5760"/>
                <a:ext cx="6264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>
                <a:off x="34200" y="17640"/>
                <a:ext cx="3492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03" name="Rectangle 13"/>
            <p:cNvGrpSpPr/>
            <p:nvPr/>
          </p:nvGrpSpPr>
          <p:grpSpPr>
            <a:xfrm>
              <a:off x="0" y="0"/>
              <a:ext cx="46800" cy="6858000"/>
              <a:chOff x="0" y="0"/>
              <a:chExt cx="46800" cy="6858000"/>
            </a:xfrm>
          </p:grpSpPr>
          <p:pic>
            <p:nvPicPr>
              <p:cNvPr id="40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06" name="Rectangle 15"/>
            <p:cNvGrpSpPr/>
            <p:nvPr/>
          </p:nvGrpSpPr>
          <p:grpSpPr>
            <a:xfrm>
              <a:off x="52200" y="5760"/>
              <a:ext cx="46800" cy="6852240"/>
              <a:chOff x="52200" y="5760"/>
              <a:chExt cx="46800" cy="6852240"/>
            </a:xfrm>
          </p:grpSpPr>
          <p:pic>
            <p:nvPicPr>
              <p:cNvPr id="407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>
                <a:off x="676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09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410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12" name="Rectangle 17"/>
            <p:cNvGrpSpPr/>
            <p:nvPr/>
          </p:nvGrpSpPr>
          <p:grpSpPr>
            <a:xfrm>
              <a:off x="104400" y="5760"/>
              <a:ext cx="46800" cy="6852240"/>
              <a:chOff x="104400" y="5760"/>
              <a:chExt cx="46800" cy="6852240"/>
            </a:xfrm>
          </p:grpSpPr>
          <p:pic>
            <p:nvPicPr>
              <p:cNvPr id="413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1198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15" name="Rectangle 18"/>
            <p:cNvGrpSpPr/>
            <p:nvPr/>
          </p:nvGrpSpPr>
          <p:grpSpPr>
            <a:xfrm>
              <a:off x="125280" y="5760"/>
              <a:ext cx="41760" cy="6852240"/>
              <a:chOff x="125280" y="5760"/>
              <a:chExt cx="41760" cy="6852240"/>
            </a:xfrm>
          </p:grpSpPr>
          <p:pic>
            <p:nvPicPr>
              <p:cNvPr id="416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528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13716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18" name="Rectangle 19"/>
            <p:cNvGrpSpPr/>
            <p:nvPr/>
          </p:nvGrpSpPr>
          <p:grpSpPr>
            <a:xfrm>
              <a:off x="140760" y="5760"/>
              <a:ext cx="41760" cy="6852240"/>
              <a:chOff x="140760" y="5760"/>
              <a:chExt cx="41760" cy="6852240"/>
            </a:xfrm>
          </p:grpSpPr>
          <p:pic>
            <p:nvPicPr>
              <p:cNvPr id="419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0" name=""/>
              <p:cNvSpPr/>
              <p:nvPr/>
            </p:nvSpPr>
            <p:spPr>
              <a:xfrm>
                <a:off x="15444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21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422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sp>
        <p:nvSpPr>
          <p:cNvPr id="424" name="Straight Connector 7"/>
          <p:cNvSpPr/>
          <p:nvPr/>
        </p:nvSpPr>
        <p:spPr>
          <a:xfrm flipV="1">
            <a:off x="3657600" y="1676160"/>
            <a:ext cx="1440" cy="4452840"/>
          </a:xfrm>
          <a:prstGeom prst="line">
            <a:avLst/>
          </a:prstGeom>
          <a:ln w="64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842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2" marL="7128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3" marL="9414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4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5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6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9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0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1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2069-FF0E-4919-B611-7AF9B1F5AE09}" type="slidenum"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467" name="Rectangle 20"/>
            <p:cNvGrpSpPr/>
            <p:nvPr/>
          </p:nvGrpSpPr>
          <p:grpSpPr>
            <a:xfrm>
              <a:off x="20880" y="5760"/>
              <a:ext cx="62640" cy="6852240"/>
              <a:chOff x="20880" y="5760"/>
              <a:chExt cx="62640" cy="6852240"/>
            </a:xfrm>
          </p:grpSpPr>
          <p:pic>
            <p:nvPicPr>
              <p:cNvPr id="468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5760"/>
                <a:ext cx="6264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34200" y="17640"/>
                <a:ext cx="3492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70" name="Rectangle 13"/>
            <p:cNvGrpSpPr/>
            <p:nvPr/>
          </p:nvGrpSpPr>
          <p:grpSpPr>
            <a:xfrm>
              <a:off x="0" y="0"/>
              <a:ext cx="46800" cy="6858000"/>
              <a:chOff x="0" y="0"/>
              <a:chExt cx="46800" cy="6858000"/>
            </a:xfrm>
          </p:grpSpPr>
          <p:pic>
            <p:nvPicPr>
              <p:cNvPr id="471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73" name="Rectangle 15"/>
            <p:cNvGrpSpPr/>
            <p:nvPr/>
          </p:nvGrpSpPr>
          <p:grpSpPr>
            <a:xfrm>
              <a:off x="52200" y="5760"/>
              <a:ext cx="46800" cy="6852240"/>
              <a:chOff x="52200" y="5760"/>
              <a:chExt cx="46800" cy="6852240"/>
            </a:xfrm>
          </p:grpSpPr>
          <p:pic>
            <p:nvPicPr>
              <p:cNvPr id="474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676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76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477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79" name="Rectangle 17"/>
            <p:cNvGrpSpPr/>
            <p:nvPr/>
          </p:nvGrpSpPr>
          <p:grpSpPr>
            <a:xfrm>
              <a:off x="104400" y="5760"/>
              <a:ext cx="46800" cy="6852240"/>
              <a:chOff x="104400" y="5760"/>
              <a:chExt cx="46800" cy="6852240"/>
            </a:xfrm>
          </p:grpSpPr>
          <p:pic>
            <p:nvPicPr>
              <p:cNvPr id="480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1198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82" name="Rectangle 18"/>
            <p:cNvGrpSpPr/>
            <p:nvPr/>
          </p:nvGrpSpPr>
          <p:grpSpPr>
            <a:xfrm>
              <a:off x="125280" y="5760"/>
              <a:ext cx="41760" cy="6852240"/>
              <a:chOff x="125280" y="5760"/>
              <a:chExt cx="41760" cy="6852240"/>
            </a:xfrm>
          </p:grpSpPr>
          <p:pic>
            <p:nvPicPr>
              <p:cNvPr id="483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528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13716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85" name="Rectangle 19"/>
            <p:cNvGrpSpPr/>
            <p:nvPr/>
          </p:nvGrpSpPr>
          <p:grpSpPr>
            <a:xfrm>
              <a:off x="140760" y="5760"/>
              <a:ext cx="41760" cy="6852240"/>
              <a:chOff x="140760" y="5760"/>
              <a:chExt cx="41760" cy="6852240"/>
            </a:xfrm>
          </p:grpSpPr>
          <p:pic>
            <p:nvPicPr>
              <p:cNvPr id="486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15444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88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489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sp>
        <p:nvSpPr>
          <p:cNvPr id="491" name="Straight Connector 7"/>
          <p:cNvSpPr/>
          <p:nvPr/>
        </p:nvSpPr>
        <p:spPr>
          <a:xfrm flipV="1">
            <a:off x="3657600" y="1676160"/>
            <a:ext cx="1440" cy="4452840"/>
          </a:xfrm>
          <a:prstGeom prst="line">
            <a:avLst/>
          </a:prstGeom>
          <a:ln w="64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842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2" marL="7128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3" marL="9414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4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5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6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22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23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24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11FC-B96E-474A-970C-B2E260F2B7E0}" type="slidenum"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タイトル 1" descr=""/>
          <p:cNvPicPr/>
          <p:nvPr/>
        </p:nvPicPr>
        <p:blipFill>
          <a:blip r:embed="rId1"/>
          <a:stretch/>
        </p:blipFill>
        <p:spPr>
          <a:xfrm>
            <a:off x="669960" y="2114640"/>
            <a:ext cx="7804080" cy="1403280"/>
          </a:xfrm>
          <a:prstGeom prst="rect">
            <a:avLst/>
          </a:prstGeom>
          <a:ln w="0">
            <a:noFill/>
          </a:ln>
        </p:spPr>
      </p:pic>
      <p:grpSp>
        <p:nvGrpSpPr>
          <p:cNvPr id="534" name="サブタイトル 2"/>
          <p:cNvGrpSpPr/>
          <p:nvPr/>
        </p:nvGrpSpPr>
        <p:grpSpPr>
          <a:xfrm>
            <a:off x="669960" y="3638520"/>
            <a:ext cx="7804080" cy="1403280"/>
            <a:chOff x="669960" y="3638520"/>
            <a:chExt cx="7804080" cy="1403280"/>
          </a:xfrm>
        </p:grpSpPr>
        <p:pic>
          <p:nvPicPr>
            <p:cNvPr id="535" name="サブタイトル 2" descr=""/>
            <p:cNvPicPr/>
            <p:nvPr/>
          </p:nvPicPr>
          <p:blipFill>
            <a:blip r:embed="rId2"/>
            <a:stretch/>
          </p:blipFill>
          <p:spPr>
            <a:xfrm>
              <a:off x="669960" y="3638520"/>
              <a:ext cx="78040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685800" y="365760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98989"/>
                  </a:solidFill>
                  <a:latin typeface="Lucida Console"/>
                </a:rPr>
                <a:t>ABC</a:t>
              </a:r>
              <a:r>
                <a:rPr b="0" lang="ja-JP" sz="2000" spc="-1" strike="noStrike">
                  <a:solidFill>
                    <a:srgbClr val="898989"/>
                  </a:solidFill>
                  <a:latin typeface="Lucida Console"/>
                </a:rPr>
                <a:t>トラベル株式会社</a:t>
              </a:r>
              <a:endParaRPr b="0" lang="en-US" sz="2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pic>
        <p:nvPicPr>
          <p:cNvPr id="537" name="図 4" descr=""/>
          <p:cNvPicPr/>
          <p:nvPr/>
        </p:nvPicPr>
        <p:blipFill>
          <a:blip r:embed="rId3"/>
          <a:stretch/>
        </p:blipFill>
        <p:spPr>
          <a:xfrm>
            <a:off x="7559640" y="720720"/>
            <a:ext cx="1006560" cy="1976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-0.12152 C -0.00694 -0.12963 -0.02101 -0.1375 -0.02587 -0.1375 C -0.05694 -0.1375 -0.08889 -0.0125 -0.08889 0.1125 C -0.08889 0.04954 -0.10486 -0.0125 -0.11996 -0.0125 C -0.13594 -0.0125 -0.15104 0.05047 -0.15104 0.1125 C -0.15104 0.08149 -0.15903 0.04954 -0.16701 0.04954 C -0.175 0.04954 -0.18299 0.08056 -0.18299 0.1125 C -0.18299 0.09653 -0.18698 0.08149 -0.19097 0.08149 C -0.19496 0.08149 -0.19896 0.09746 -0.19896 0.1125 C -0.19896 0.1044 -0.20104 0.09653 -0.20295 0.09653 C -0.20399 0.09653 -0.20694 0.10463 -0.20694 0.1125 C -0.20694 0.10857 -0.20799 0.1044 -0.20903 0.1044 C -0.20903 0.10348 -0.21111 0.10834 -0.21111 0.1125 C -0.21111 0.11042 -0.21111 0.10857 -0.21215 0.10857 C -0.21215 0.10949 -0.21319 0.11065 -0.21319 0.1125 C -0.21319 0.11158 -0.21319 0.11042 -0.21319 0.10949 C -0.21424 0.10949 -0.21424 0.11042 -0.21424 0.11158 C -0.21528 0.11158 -0.21528 0.11065 -0.21528 0.10949 C -0.21632 0.10949 -0.21632 0.11042 -0.21632 0.11158 E">
                                      <p:cBhvr>
                                        <p:cTn id="6" dur="6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906 -0.27246 C -0.33784 -0.27292 -0.32725 -0.27732 -0.32604 -0.27825 C -0.32152 -0.28172 -0.31805 -0.28774 -0.31302 -0.28982 C -0.29722 -0.29653 -0.28715 -0.29908 -0.26944 -0.3014 C -0.25729 -0.30672 -0.24479 -0.31065 -0.23246 -0.31575 C -0.21423 -0.33218 -0.19427 -0.32616 -0.1717 -0.32755 C -0.13142 -0.33635 -0.09705 -0.32917 -0.05434 -0.32755 C -0.05 -0.32547 -0.04548 -0.32362 -0.04114 -0.32153 C -0.03906 -0.32061 -0.0368 -0.31968 -0.03472 -0.31876 C -0.03246 -0.31783 -0.03038 -0.31667 -0.02812 -0.31575 C -0.02604 -0.31482 -0.0217 -0.31297 -0.0217 -0.31297 C -0.00798 -0.3007 -0.00521 -0.29538 0.00452 -0.27825 C 0.00764 -0.27269 0.0132 -0.26089 0.0132 -0.26089 C 0.01667 -0.24653 0.01806 -0.23172 0.02188 -0.21737 C 0.02691 -0.16899 0.02327 -0.11991 0.01528 -0.07246 C 0.01233 -0.0551 0.00799 -0.03727 0.00452 -0.02015 C -0.00017 0.00277 -3.05556E-006 -0.00973 -3.05556E-006 -5.55556E-006 E">
                                      <p:cBhvr>
                                        <p:cTn id="10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タイトル 1"/>
          <p:cNvGrpSpPr/>
          <p:nvPr/>
        </p:nvGrpSpPr>
        <p:grpSpPr>
          <a:xfrm>
            <a:off x="1163520" y="262080"/>
            <a:ext cx="7529760" cy="1170000"/>
            <a:chOff x="1163520" y="262080"/>
            <a:chExt cx="7529760" cy="1170000"/>
          </a:xfrm>
        </p:grpSpPr>
        <p:pic>
          <p:nvPicPr>
            <p:cNvPr id="539" name="タイトル 1" descr=""/>
            <p:cNvPicPr/>
            <p:nvPr/>
          </p:nvPicPr>
          <p:blipFill>
            <a:blip r:embed="rId1"/>
            <a:stretch/>
          </p:blipFill>
          <p:spPr>
            <a:xfrm>
              <a:off x="1163520" y="262080"/>
              <a:ext cx="752976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Lucida Sans Unicode"/>
                  <a:ea typeface="ＭＳ Ｐゴシック"/>
                </a:rPr>
                <a:t>アンケート調査</a:t>
              </a:r>
              <a:r>
                <a:rPr b="0" lang="en-US" sz="3200" spc="-1" strike="noStrike">
                  <a:solidFill>
                    <a:srgbClr val="000000"/>
                  </a:solidFill>
                  <a:latin typeface="Lucida Sans Unicode"/>
                  <a:ea typeface="ＭＳ Ｐゴシック"/>
                </a:rPr>
                <a:t>(1)</a:t>
              </a:r>
              <a:br>
                <a:rPr sz="3200"/>
              </a:br>
              <a:r>
                <a:rPr b="0" lang="ja-JP" sz="3200" spc="-1" strike="noStrike">
                  <a:solidFill>
                    <a:srgbClr val="000000"/>
                  </a:solidFill>
                  <a:latin typeface="Lucida Sans Unicode"/>
                  <a:ea typeface="ＭＳ Ｐゴシック"/>
                </a:rPr>
                <a:t>海外旅行の目的は？</a:t>
              </a:r>
              <a:endParaRPr b="0" lang="en-US" sz="32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541" name=""/>
          <p:cNvSpPr txBox="1"/>
          <p:nvPr/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 fontScale="65000"/>
          </a:bodyPr>
          <a:p>
            <a:pPr marL="334080" indent="-334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Lucida Console"/>
              <a:buAutoNum type="arabicPeriod"/>
              <a:tabLst>
                <a:tab algn="r" pos="8639280"/>
                <a:tab algn="l" pos="9144000"/>
                <a:tab algn="l" pos="10058400"/>
              </a:tabLst>
            </a:pP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観光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33</a:t>
            </a: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％</a:t>
            </a:r>
            <a:endParaRPr b="0" lang="en-US" sz="3300" spc="-1" strike="noStrike">
              <a:solidFill>
                <a:srgbClr val="000000"/>
              </a:solidFill>
              <a:latin typeface="Lucida Console"/>
            </a:endParaRPr>
          </a:p>
          <a:p>
            <a:pPr marL="334080" indent="-334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Lucida Console"/>
              <a:buAutoNum type="arabicPeriod"/>
              <a:tabLst>
                <a:tab algn="r" pos="8639280"/>
                <a:tab algn="l" pos="9144000"/>
                <a:tab algn="l" pos="10058400"/>
              </a:tabLst>
            </a:pP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リフレッシュ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27</a:t>
            </a: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％</a:t>
            </a:r>
            <a:endParaRPr b="0" lang="en-US" sz="3300" spc="-1" strike="noStrike">
              <a:solidFill>
                <a:srgbClr val="000000"/>
              </a:solidFill>
              <a:latin typeface="Lucida Console"/>
            </a:endParaRPr>
          </a:p>
          <a:p>
            <a:pPr marL="334080" indent="-334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Lucida Console"/>
              <a:buAutoNum type="arabicPeriod"/>
              <a:tabLst>
                <a:tab algn="r" pos="8639280"/>
                <a:tab algn="l" pos="9144000"/>
                <a:tab algn="l" pos="10058400"/>
              </a:tabLst>
            </a:pP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食事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18</a:t>
            </a: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％</a:t>
            </a:r>
            <a:endParaRPr b="0" lang="en-US" sz="3300" spc="-1" strike="noStrike">
              <a:solidFill>
                <a:srgbClr val="000000"/>
              </a:solidFill>
              <a:latin typeface="Lucida Console"/>
            </a:endParaRPr>
          </a:p>
          <a:p>
            <a:pPr marL="334080" indent="-334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Lucida Console"/>
              <a:buAutoNum type="arabicPeriod"/>
              <a:tabLst>
                <a:tab algn="r" pos="8639280"/>
                <a:tab algn="l" pos="9144000"/>
                <a:tab algn="l" pos="10058400"/>
              </a:tabLst>
            </a:pP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ショッピング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7</a:t>
            </a: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％</a:t>
            </a:r>
            <a:endParaRPr b="0" lang="en-US" sz="3300" spc="-1" strike="noStrike">
              <a:solidFill>
                <a:srgbClr val="000000"/>
              </a:solidFill>
              <a:latin typeface="Lucida Console"/>
            </a:endParaRPr>
          </a:p>
          <a:p>
            <a:pPr marL="334080" indent="-334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Lucida Console"/>
              <a:buAutoNum type="arabicPeriod"/>
              <a:tabLst>
                <a:tab algn="r" pos="8639280"/>
                <a:tab algn="l" pos="9144000"/>
                <a:tab algn="l" pos="10058400"/>
              </a:tabLst>
            </a:pP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アクティビティ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5</a:t>
            </a: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％</a:t>
            </a:r>
            <a:endParaRPr b="0" lang="en-US" sz="3300" spc="-1" strike="noStrike">
              <a:solidFill>
                <a:srgbClr val="000000"/>
              </a:solidFill>
              <a:latin typeface="Lucida Console"/>
            </a:endParaRPr>
          </a:p>
          <a:p>
            <a:pPr marL="334080" indent="-334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Lucida Console"/>
              <a:buAutoNum type="arabicPeriod"/>
              <a:tabLst>
                <a:tab algn="r" pos="8639280"/>
                <a:tab algn="l" pos="9144000"/>
                <a:tab algn="l" pos="10058400"/>
              </a:tabLst>
            </a:pP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その他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10</a:t>
            </a: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％</a:t>
            </a:r>
            <a:endParaRPr b="0" lang="en-US" sz="33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タイトル 1"/>
          <p:cNvGrpSpPr/>
          <p:nvPr/>
        </p:nvGrpSpPr>
        <p:grpSpPr>
          <a:xfrm>
            <a:off x="1163520" y="262080"/>
            <a:ext cx="7529760" cy="1170000"/>
            <a:chOff x="1163520" y="262080"/>
            <a:chExt cx="7529760" cy="1170000"/>
          </a:xfrm>
        </p:grpSpPr>
        <p:pic>
          <p:nvPicPr>
            <p:cNvPr id="543" name="タイトル 1" descr=""/>
            <p:cNvPicPr/>
            <p:nvPr/>
          </p:nvPicPr>
          <p:blipFill>
            <a:blip r:embed="rId1"/>
            <a:stretch/>
          </p:blipFill>
          <p:spPr>
            <a:xfrm>
              <a:off x="1163520" y="262080"/>
              <a:ext cx="752976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Lucida Sans Unicode"/>
                  <a:ea typeface="ＭＳ Ｐゴシック"/>
                </a:rPr>
                <a:t>アンケート調査</a:t>
              </a:r>
              <a:r>
                <a:rPr b="0" lang="en-US" sz="3200" spc="-1" strike="noStrike">
                  <a:solidFill>
                    <a:srgbClr val="000000"/>
                  </a:solidFill>
                  <a:latin typeface="Lucida Sans Unicode"/>
                  <a:ea typeface="ＭＳ Ｐゴシック"/>
                </a:rPr>
                <a:t>(2)</a:t>
              </a:r>
              <a:br>
                <a:rPr sz="3200"/>
              </a:br>
              <a:r>
                <a:rPr b="0" lang="ja-JP" sz="3200" spc="-1" strike="noStrike">
                  <a:solidFill>
                    <a:srgbClr val="000000"/>
                  </a:solidFill>
                  <a:latin typeface="Lucida Sans Unicode"/>
                  <a:ea typeface="ＭＳ Ｐゴシック"/>
                </a:rPr>
                <a:t>海外旅行で行きたい地域は？</a:t>
              </a:r>
              <a:endParaRPr b="0" lang="en-US" sz="32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graphicFrame>
        <p:nvGraphicFramePr>
          <p:cNvPr id="545" name="コンテンツ プレースホルダー 3"/>
          <p:cNvGraphicFramePr/>
          <p:nvPr/>
        </p:nvGraphicFramePr>
        <p:xfrm>
          <a:off x="1216080" y="1633680"/>
          <a:ext cx="7427880" cy="4438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46" name="コンテンツ プレースホルダー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6080" y="1633680"/>
                    <a:ext cx="7427880" cy="44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タイトル 1"/>
          <p:cNvGrpSpPr/>
          <p:nvPr/>
        </p:nvGrpSpPr>
        <p:grpSpPr>
          <a:xfrm>
            <a:off x="1163520" y="262080"/>
            <a:ext cx="7529760" cy="1170000"/>
            <a:chOff x="1163520" y="262080"/>
            <a:chExt cx="7529760" cy="1170000"/>
          </a:xfrm>
        </p:grpSpPr>
        <p:pic>
          <p:nvPicPr>
            <p:cNvPr id="548" name="タイトル 1" descr=""/>
            <p:cNvPicPr/>
            <p:nvPr/>
          </p:nvPicPr>
          <p:blipFill>
            <a:blip r:embed="rId1"/>
            <a:stretch/>
          </p:blipFill>
          <p:spPr>
            <a:xfrm>
              <a:off x="1163520" y="262080"/>
              <a:ext cx="752976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Lucida Sans Unicode"/>
                  <a:ea typeface="ＭＳ Ｐゴシック"/>
                </a:rPr>
                <a:t>バリ島の魅力</a:t>
              </a:r>
              <a:endParaRPr b="0" lang="en-US" sz="3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pic>
        <p:nvPicPr>
          <p:cNvPr id="550" name="コンテンツ プレースホルダー 3" descr=""/>
          <p:cNvPicPr/>
          <p:nvPr/>
        </p:nvPicPr>
        <p:blipFill>
          <a:blip r:embed="rId2"/>
          <a:stretch/>
        </p:blipFill>
        <p:spPr>
          <a:xfrm>
            <a:off x="1316160" y="1736640"/>
            <a:ext cx="7224480" cy="4359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タイトル 1"/>
          <p:cNvGrpSpPr/>
          <p:nvPr/>
        </p:nvGrpSpPr>
        <p:grpSpPr>
          <a:xfrm>
            <a:off x="1163520" y="262080"/>
            <a:ext cx="7529760" cy="1170000"/>
            <a:chOff x="1163520" y="262080"/>
            <a:chExt cx="7529760" cy="1170000"/>
          </a:xfrm>
        </p:grpSpPr>
        <p:pic>
          <p:nvPicPr>
            <p:cNvPr id="552" name="タイトル 1" descr=""/>
            <p:cNvPicPr/>
            <p:nvPr/>
          </p:nvPicPr>
          <p:blipFill>
            <a:blip r:embed="rId1"/>
            <a:stretch/>
          </p:blipFill>
          <p:spPr>
            <a:xfrm>
              <a:off x="1163520" y="262080"/>
              <a:ext cx="752976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Lucida Sans Unicode"/>
                  <a:ea typeface="ＭＳ Ｐゴシック"/>
                </a:rPr>
                <a:t>ツアー＆オプショナルツアー</a:t>
              </a:r>
              <a:endParaRPr b="0" lang="en-US" sz="3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554" name=""/>
          <p:cNvSpPr txBox="1"/>
          <p:nvPr/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 fontScale="99000"/>
          </a:bodyPr>
          <a:p>
            <a:pPr marL="252720" indent="-22608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Lucida Console"/>
              </a:rPr>
              <a:t>ツアー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479160" indent="-22608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観光満喫！バリ島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日間の旅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79160" indent="-22608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自然満喫！バリ島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日間の旅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79160" indent="-22608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ホテルでのんびり！バリ島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日間の旅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marL="252720" indent="-22608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Lucida Console"/>
              </a:rPr>
              <a:t>オプショナルツアー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479160" indent="-22608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ウブド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日観光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79160" indent="-22608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バリ島伝統芸能鑑賞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79160" indent="-22608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市場めぐり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8:07:36Z</dcterms:created>
  <dc:creator>tanaka</dc:creator>
  <dc:description/>
  <dc:language>en-US</dc:language>
  <cp:lastModifiedBy>Ken Ishikawa</cp:lastModifiedBy>
  <dcterms:modified xsi:type="dcterms:W3CDTF">2014-12-17T05:50:57Z</dcterms:modified>
  <cp:revision>38</cp:revision>
  <dc:subject/>
  <dc:title>PowerPoint プレゼンテーション</dc:title>
</cp:coreProperties>
</file>