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769-747B-4809-BAC4-B2080285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66D-4F73-47AB-AC30-3DB12358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4EAE1-369A-49C9-BDBE-26556563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DF9A5-811B-49F7-9215-C426B682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8B8EE-03AC-4CC2-9705-837C3860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34C43-5945-4051-95BF-AA3C61B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87DD6-1668-4E28-A286-EADC419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CAEC3-203E-4186-B6A9-C45E2F1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1E335-CE4F-45C2-B06F-82851070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DDAA9-8F86-40F2-A4A8-7AC2C35B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82F1E-3550-4A76-A31F-18CA0BFB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BCCD4-F923-49D4-BADD-B449E955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0C0-0C1E-4C94-AC46-B073D2DE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2B31C-E284-4113-9FB2-1CDB0250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AD2BA-8FC1-4D52-A2A3-B053A22C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AE2AB-518D-4F4F-982E-D186A88B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6A7C3-5E85-47BD-A775-AF934B31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66CE6-4637-4D4A-825F-19EC7ECC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A6CB3-AD2A-447D-967C-6D2B42CA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A44A7-0BFD-46A2-ABA7-0467233F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BCFB6-86E7-4A53-9536-790E1E52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A01E4-D3BB-48AE-88A7-B5297FBF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89411-61D3-4D14-8801-E9EDDCD4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DC0-DCE1-4452-AD4D-6C37B95F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1F86E-1DC8-41D9-AC96-3A6D6968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8FE51-6706-4652-BB0F-97898241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444EB-8F88-4F0B-964E-F90481A3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517CA-D077-4B78-9815-7977835B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95904-B33C-4C67-8094-86E74E02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5BD45-95F1-42F7-BFE1-4177FD08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CDB67-6701-4CC9-AE79-E22B9A60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9DE65-6E19-4B4F-8FC4-44CCD31F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1B114-DDE4-4D41-AB6B-7BB6C7D4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B985B-78E1-41D0-BF37-45DA7A1E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7FD7-2E0F-4470-A09F-7394FE30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B285E-3419-46D4-8D98-4B32241C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6738D-9CD1-4961-BFC1-18CB446A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F6496-C6E0-4132-9D6F-20378311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D1827-1B84-4185-A854-50708107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CF8CE-0033-4D17-B873-080E6167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9EDEE-0453-4F33-B3DF-2A2DCEE7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09852-F3D5-49A3-A689-C0F239F3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5B973-F349-41BE-9B23-B8B499E3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618AE-B44C-477C-9348-4677E812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4189D-F8D1-4673-B6A8-7591EAE7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D383-64BF-4577-B2EC-C0373324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3523C-7398-490C-865A-039CF717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CFF2B-B200-42AB-9B21-492704CC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32B23-D1DD-44BD-BC0C-1F6790B8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67DE1-5198-4D40-918E-037A8BDA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BAC46-3CCD-4C78-AA2E-997D273B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DA47-907E-4308-9B82-8BAC5F65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8065-7A08-4FA5-A8D2-6E8FD8B0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16BB-1D2A-4DF9-91A1-7F78030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6E0A-D323-459B-9CF6-85E99721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B0A7-0AC6-406F-8A89-1001C656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2F2-EC7D-47B8-92BA-88B7C999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5A4B-A927-4722-B562-70CDEEB0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DDB3-40A3-4AFA-9BD9-594609B1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0BB5-0E6E-43ED-930C-78889D40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004E-7B69-40E3-B210-D84C5B46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AD24-0E59-495F-AD16-A95660B7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37FF2-39DE-4BF9-8457-C32EF904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FF66-97D3-400A-997A-635686E4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E314B-F5DA-4852-982D-981DA480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3FB4-1472-4C91-89D3-ED876B55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3AD0B-E655-4DAD-87DA-58D8945A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3B5-568B-441C-AE2E-FCF1EF93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4889-74C1-4675-9254-284F6B0A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AAC83-2744-4448-B1FC-0BC2DC2A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B2F48-7DF8-4128-ACED-1E47484A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6199E-F4B9-4225-9996-261A84C3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95F3-1163-49FE-94B2-92764C2E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B074-8D49-45D3-8D6E-38E7BEF7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52D5C-648D-4082-A0D8-9742990E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11391-AACD-48C3-9FDE-8F640D94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F96CD-599B-465B-B266-C14D2B57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727D3-E00C-44F3-8307-F2927741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48B-4CA4-45D0-897F-410B8AA4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00D8-AC6F-45E4-9643-7E9A39DF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3E5AE-5229-48F5-9304-8F2DC83E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F2506-C2A5-486A-AAE8-B39AD8CE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79EBC-E086-4D27-BDFC-19A55C13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8D4A1-360B-4800-BA01-A2CBE6EE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5E9BE-0219-42C5-88D4-2DA244C4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E44CE-331F-47E9-A730-05EFD062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25D55-EC0C-4C5B-9685-9A7592C7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3AC5A-1C05-47F0-B0E1-3C99DE21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A2217-5F18-4FB1-AF96-80384C58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BAA-FC98-41B4-A66E-4DE5B822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E6087-B76E-4695-9C05-A114C3D8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E8E4D-7644-4614-96F1-E4B49406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3273C-1402-4C19-AE6E-D261C540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256B-C4FF-4E91-A25D-10B371C0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3F38A-0D4D-4045-A537-3022F597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E3372-88A2-491A-83B4-DA680118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0E545-1344-4102-BD52-07F9D86C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A5460-828B-4BAE-9A3A-F532C0EC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B34DD-81A7-4CDA-84B4-145267CD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1592B-60FC-420A-BD76-8BF78C44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53A-25FA-498C-AD14-1B017E72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FB52B-5697-4494-B3B7-C8CAB93C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D02D0-8D22-4F4E-A996-229573E2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8B253-676F-429C-B923-8B36C2CF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123B-CB81-4BEE-87C0-3C053B41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E2E53-A2B6-4A36-B1D6-D76C8C5C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4B13E-7E41-4FBF-AE97-8EF68AA2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B204C-DA73-42A3-BA0E-91A2124B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82C32-DAAB-423E-BFD8-CE90517F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66CEB-0101-463E-B1DF-7EB72F0B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4FBC4-1C30-4F0D-8E5E-E9E17579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2FE-6852-4D9C-9780-D12ED752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BB71F-9E03-4595-8E54-3376997C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8B769-10D5-4778-872F-D18C5B3C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85C5D-A847-4AF1-B7C5-EAD2C0DE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A041D-627A-4914-B0E0-BF322892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DE1AF-D5E0-4E2D-84C9-4D7B6652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385A0-2F32-496C-99DD-F1ECDF73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CC372-C711-4647-AA0E-44FCE67A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2FC87-9A43-4ED2-AB1C-DE103F49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6B0C9-A01E-49D0-B30B-EDEC6C65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3ECA2-7328-425B-8C28-69BA43B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EC5-DB22-48C1-96FD-7BD5AA7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4B6C9-99DE-4037-A410-2E534BB9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BE0AD-F32E-4134-AEDA-DDACAEE2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E8D1C-34D1-472C-8B10-C57B316E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19354-7535-4EC3-B852-F6140D1E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0AA8A-3FE5-4F74-96FD-A9B25F7A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D6BC4-EB39-4F43-BF66-1DAF64B0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50815-8B44-46A6-89E3-D2E8B2AE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447D7-ADB5-4DF5-ABD3-39D12422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159A9-092C-45EF-9682-4FEF0E74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99166-6D6E-4CB9-8D39-325F0640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639-A087-4803-933A-58B8D47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A9BF6-F4D3-4B0C-8904-758F0C41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7B8E0-34C6-4A44-B70E-4EB0235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97F31-A82D-41AD-BD0C-5624FCBE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94011-2332-442A-BAD9-C940CAC3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82649-0B1B-490C-8B8C-AB8D522F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93E8A-1B37-4A2B-B3F9-E84A6023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1624C-25D0-4DD3-834E-FCD32C76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1BED1-E99E-4FBD-95D2-5D6A2B04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005E4-37B9-4A2B-AFD1-839B94F1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2B68C-C086-4266-8169-F192CD31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55f5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E65D1-1342-43C2-BB06-28FDBFFC29B5}" type="slidenum">
              <a:rPr b="0" lang="en-US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3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ffffff"/>
          </a:solidFill>
          <a:ln cap="sq"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98F16-433E-48AB-BA83-E0C7B8320670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467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69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7D213-F433-4F69-803C-B921B914F823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512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14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A00CC-7CD2-47D4-B48B-12321CAD5B00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Rectangle 15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46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8" name="Rectangle 9"/>
          <p:cNvGrpSpPr/>
          <p:nvPr/>
        </p:nvGrpSpPr>
        <p:grpSpPr>
          <a:xfrm>
            <a:off x="1243080" y="1200240"/>
            <a:ext cx="9710640" cy="4451400"/>
            <a:chOff x="1243080" y="1200240"/>
            <a:chExt cx="9710640" cy="4451400"/>
          </a:xfrm>
        </p:grpSpPr>
        <p:pic>
          <p:nvPicPr>
            <p:cNvPr id="49" name="Rectangle 9" descr=""/>
            <p:cNvPicPr/>
            <p:nvPr/>
          </p:nvPicPr>
          <p:blipFill>
            <a:blip r:embed="rId3"/>
            <a:stretch/>
          </p:blipFill>
          <p:spPr>
            <a:xfrm>
              <a:off x="1243080" y="1200240"/>
              <a:ext cx="9710640" cy="44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1" name="Rectangle 10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549e39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54" name="Straight Connector 16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5" name="Straight Connector 17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" name="Straight Connector 18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5317920" y="1341360"/>
            <a:ext cx="15555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1454040" y="5211360"/>
            <a:ext cx="5905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07600" y="5211360"/>
            <a:ext cx="211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178B2-AB00-45FF-9546-72642A528E7A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99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1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359EF-3C08-42C4-A8D1-99E452B0CFB4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18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144" name="Rectangle 1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46" name="Rectangle 22"/>
          <p:cNvGrpSpPr/>
          <p:nvPr/>
        </p:nvGrpSpPr>
        <p:grpSpPr>
          <a:xfrm>
            <a:off x="1243080" y="1200240"/>
            <a:ext cx="9710640" cy="4451400"/>
            <a:chOff x="1243080" y="1200240"/>
            <a:chExt cx="9710640" cy="4451400"/>
          </a:xfrm>
        </p:grpSpPr>
        <p:pic>
          <p:nvPicPr>
            <p:cNvPr id="147" name="Rectangle 22" descr=""/>
            <p:cNvPicPr/>
            <p:nvPr/>
          </p:nvPicPr>
          <p:blipFill>
            <a:blip r:embed="rId3"/>
            <a:stretch/>
          </p:blipFill>
          <p:spPr>
            <a:xfrm>
              <a:off x="1243080" y="1200240"/>
              <a:ext cx="9710640" cy="44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Rectangle 23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Rectangle 29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549e39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51" name="Group 30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152" name="Straight Connector 31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3" name="Straight Connector 32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4" name="Straight Connector 33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5321160" y="1344240"/>
            <a:ext cx="15559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453680" y="5211360"/>
            <a:ext cx="590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604000" y="5211360"/>
            <a:ext cx="211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999B5-6563-4647-AFA7-B11731C2C6AF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197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9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68C3F-0E4E-4732-9FE3-43124CFFB1B5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242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44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C54B7-DC6E-4541-9F30-F110563A6C48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287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89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61F8C-75F5-4D04-AE4A-37DBD98E7A67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332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15FA2-80E0-4CF0-BAA0-9BBF86A2F500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13"/>
          <p:cNvGrpSpPr/>
          <p:nvPr/>
        </p:nvGrpSpPr>
        <p:grpSpPr>
          <a:xfrm>
            <a:off x="231840" y="237960"/>
            <a:ext cx="8643960" cy="6388200"/>
            <a:chOff x="231840" y="237960"/>
            <a:chExt cx="8643960" cy="6388200"/>
          </a:xfrm>
        </p:grpSpPr>
        <p:pic>
          <p:nvPicPr>
            <p:cNvPr id="377" name="Rectangle 13" descr=""/>
            <p:cNvPicPr/>
            <p:nvPr/>
          </p:nvPicPr>
          <p:blipFill>
            <a:blip r:embed="rId2"/>
            <a:stretch/>
          </p:blipFill>
          <p:spPr>
            <a:xfrm>
              <a:off x="231840" y="237960"/>
              <a:ext cx="86439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35080" y="237960"/>
              <a:ext cx="863280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79" name="Rectangle 15"/>
          <p:cNvSpPr/>
          <p:nvPr/>
        </p:nvSpPr>
        <p:spPr>
          <a:xfrm>
            <a:off x="371520" y="374760"/>
            <a:ext cx="8353440" cy="610848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Rectangle 14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438000" y="6215040"/>
            <a:ext cx="51850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06756-B876-457E-A61E-93E599CB4119}" type="slidenum">
              <a:rPr b="0" lang="en-US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61680" y="2090880"/>
            <a:ext cx="906804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ff"/>
                </a:solidFill>
                <a:latin typeface="Century Gothic"/>
                <a:ea typeface="ＭＳ ゴシック"/>
              </a:rPr>
              <a:t>けやき市</a:t>
            </a:r>
            <a:br>
              <a:rPr sz="5400"/>
            </a:br>
            <a:r>
              <a:rPr b="0" lang="ja-JP" sz="5400" spc="-1" strike="noStrike">
                <a:solidFill>
                  <a:srgbClr val="ffffff"/>
                </a:solidFill>
                <a:latin typeface="Century Gothic"/>
                <a:ea typeface="ＭＳ ゴシック"/>
              </a:rPr>
              <a:t>地産地消ネットワーク</a:t>
            </a:r>
            <a:endParaRPr b="0" lang="en-US" sz="54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561680" y="4681440"/>
            <a:ext cx="9070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e3ded1"/>
                </a:solidFill>
                <a:latin typeface="Century Gothic"/>
                <a:ea typeface="ＭＳ ゴシック"/>
              </a:rPr>
              <a:t>食でつながる消費者と生産者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地産地消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066680" y="1787040"/>
            <a:ext cx="4075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「地産地消」とは？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地域で生産されたものを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その地域で消費すること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地産地消のメリット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消費者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新鮮で旬の食材を入手できる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食への理解を深めることができる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生産者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消費者のニーズを把握できる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流通コストを削減できる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0" name="下矢印 3"/>
          <p:cNvSpPr/>
          <p:nvPr/>
        </p:nvSpPr>
        <p:spPr>
          <a:xfrm rot="16200000">
            <a:off x="5011920" y="2916000"/>
            <a:ext cx="2625480" cy="1307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cf3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角丸四角形 4"/>
          <p:cNvSpPr/>
          <p:nvPr/>
        </p:nvSpPr>
        <p:spPr>
          <a:xfrm>
            <a:off x="7507440" y="3911760"/>
            <a:ext cx="3617640" cy="866520"/>
          </a:xfrm>
          <a:prstGeom prst="roundRect">
            <a:avLst>
              <a:gd name="adj" fmla="val 16667"/>
            </a:avLst>
          </a:prstGeom>
          <a:solidFill>
            <a:srgbClr val="549e39"/>
          </a:solidFill>
          <a:ln w="12600">
            <a:solidFill>
              <a:srgbClr val="3b7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Century Gothic"/>
                <a:ea typeface="ＭＳ ゴシック"/>
              </a:rPr>
              <a:t>地域の活性化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角丸四角形 5"/>
          <p:cNvSpPr/>
          <p:nvPr/>
        </p:nvSpPr>
        <p:spPr>
          <a:xfrm>
            <a:off x="7507440" y="2290680"/>
            <a:ext cx="3617640" cy="866880"/>
          </a:xfrm>
          <a:prstGeom prst="roundRect">
            <a:avLst>
              <a:gd name="adj" fmla="val 16667"/>
            </a:avLst>
          </a:prstGeom>
          <a:solidFill>
            <a:srgbClr val="549e39"/>
          </a:solidFill>
          <a:ln w="12600">
            <a:solidFill>
              <a:srgbClr val="3b7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Century Gothic"/>
                <a:ea typeface="ＭＳ ゴシック"/>
              </a:rPr>
              <a:t>生産者と消費者の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Century Gothic"/>
                <a:ea typeface="ＭＳ ゴシック"/>
              </a:rPr>
              <a:t>信頼関係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けやき市地産地消ネットワーク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「けやき市地産地消ネットワーク」とは？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けやき市の地産地消を活性化させるため、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2010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年に設立された組織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誰がやっているの？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生産者、消費者、製造業者、流通業者、飲食店など、組織の趣旨に賛同し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入会した会員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趣旨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消費者が安全な食材を入手できるようにす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消費者と生産者の交流をサポートす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地場物産品の消費を促進す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消費者と生産者のつながり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pic>
        <p:nvPicPr>
          <p:cNvPr id="566" name="コンテンツ プレースホルダー 5" descr=""/>
          <p:cNvPicPr/>
          <p:nvPr/>
        </p:nvPicPr>
        <p:blipFill>
          <a:blip r:embed="rId1"/>
          <a:stretch/>
        </p:blipFill>
        <p:spPr>
          <a:xfrm>
            <a:off x="1066680" y="2097000"/>
            <a:ext cx="10058400" cy="3743280"/>
          </a:xfrm>
          <a:prstGeom prst="rect">
            <a:avLst/>
          </a:prstGeom>
          <a:ln w="0">
            <a:noFill/>
          </a:ln>
        </p:spPr>
      </p:pic>
      <p:sp>
        <p:nvSpPr>
          <p:cNvPr id="567" name="テキスト ボックス 6"/>
          <p:cNvSpPr/>
          <p:nvPr/>
        </p:nvSpPr>
        <p:spPr>
          <a:xfrm>
            <a:off x="7257960" y="3357720"/>
            <a:ext cx="232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信頼関係の構築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ニーズの把握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（農業体験などの交流）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8" name="テキスト ボックス 7"/>
          <p:cNvSpPr/>
          <p:nvPr/>
        </p:nvSpPr>
        <p:spPr>
          <a:xfrm>
            <a:off x="2611440" y="3463920"/>
            <a:ext cx="23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新鮮な食材の購入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販路の拡大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テキスト ボックス 8"/>
          <p:cNvSpPr/>
          <p:nvPr/>
        </p:nvSpPr>
        <p:spPr>
          <a:xfrm>
            <a:off x="4933800" y="587700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流通コストの削減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おもな活動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pic>
        <p:nvPicPr>
          <p:cNvPr id="571" name="コンテンツ プレースホルダー 2" descr=""/>
          <p:cNvPicPr/>
          <p:nvPr/>
        </p:nvPicPr>
        <p:blipFill>
          <a:blip r:embed="rId1"/>
          <a:stretch/>
        </p:blipFill>
        <p:spPr>
          <a:xfrm>
            <a:off x="987480" y="1725480"/>
            <a:ext cx="101376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けやき市のおもな地場産品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pic>
        <p:nvPicPr>
          <p:cNvPr id="573" name="コンテンツ プレースホルダー 2" descr=""/>
          <p:cNvPicPr/>
          <p:nvPr/>
        </p:nvPicPr>
        <p:blipFill>
          <a:blip r:embed="rId1"/>
          <a:stretch/>
        </p:blipFill>
        <p:spPr>
          <a:xfrm>
            <a:off x="987480" y="1725480"/>
            <a:ext cx="101376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23:53:32Z</dcterms:created>
  <dc:creator>Ken Ishikawa</dc:creator>
  <dc:description/>
  <dc:language>en-US</dc:language>
  <cp:lastModifiedBy>Ken Ishikawa</cp:lastModifiedBy>
  <dcterms:modified xsi:type="dcterms:W3CDTF">2014-12-17T05:04:55Z</dcterms:modified>
  <cp:revision>37</cp:revision>
  <dc:subject/>
  <dc:title>PowerPoint プレゼンテーション</dc:title>
</cp:coreProperties>
</file>